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3.jpeg" ContentType="image/jpeg"/>
  <Override PartName="/ppt/media/image23.png" ContentType="image/png"/>
  <Override PartName="/ppt/media/image11.png" ContentType="image/png"/>
  <Override PartName="/ppt/media/image7.jpeg" ContentType="image/jpe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9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9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dt" idx="25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6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7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500937-763F-4D7F-8B2D-47211E7B6766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FC59B7-2A08-43F5-811E-DF8079D47D8D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C1C0F4-B662-4F16-B114-898367407846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C9B6B4-F5F3-4A93-87D0-9DFC9B878887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C3E357-A562-4E1D-B58E-FA2C33F7F7C1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Foliennummernplatzhalter 3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AE6DDC-9466-4D98-9D2E-D23AA64851D1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A4DE5E-5F01-4162-9738-B1DA34CB1E25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240D4D-8267-4B08-8F4E-D67367234036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2DB276-5B67-4DD8-B429-3A9B9EDA5DEF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6AAF93-A322-40D5-9FF4-A57064FE3650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DDD642-03B0-417F-A664-243015533B32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5B2838-2BAB-455A-939A-EAA2E5517FA9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74DB2B-7D30-4459-952D-32C510F16974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2670FD-5064-4346-9616-1ECB6C14F62D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05CDA6-977C-453B-95BF-6BB1F3A2A873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366536-056A-4C2F-BFAA-A45FB46514A7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6BFBAD-D1EF-4A54-9BA7-829FE298CCE1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1F1D75-D2F7-4DB6-A894-DEAD2FC85FFE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6AC0BC-946F-4EE6-BAEE-4B85A793BADE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Foliennummernplatzhalter 3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27880E-8054-43A1-B874-56B8471D016F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Foliennummernplatzhalter 3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0C73E5-5DB9-41E9-9C3A-F46C90700194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Foliennummernplatzhalter 3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61C03C-178B-464A-A059-700D964DA2A0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EE2FE5-86AC-493E-8CAA-5DA03871454D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D4510F-D55D-47AC-8C85-7DE648A38A54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643FF6-E6C6-4ECA-87E7-0DFF9C89202F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6A56AB-2A59-44B6-B156-3C5556120BFE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06E0A3-537C-4BC6-85C0-D609A833367A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B65F09-C1AA-4309-A554-CF14A3DB1A18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5CE9DA-47B4-4306-BBB4-83E5A6827FEE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DBFF92-B11D-4C8D-BDB4-1DFE4E085B05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Foliennummernplatzhalter 3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EFF862-707B-4C9C-9AEC-7416F259ECBC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FFA293-9613-4EC8-A559-91B8E5EE00D3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617CD5-4F44-4B39-A59F-46AFC658DE28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Foliennummernplatzhalter 3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CE7768-EEE6-4C2B-88C4-6DC4953929C8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F6FEA7-2F80-42B7-AF5A-C41E8D71DFC3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Foliennummernplatzhalter 3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29BD9B-5E74-4E84-989F-BDBCAC99FA6B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E97BE4-33D7-4CA8-9EE9-E491D916F1CB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Foliennummernplatzhalter 3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C85C52-8F1F-4575-8195-3F01A7E418E4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Foliennummernplatzhalter 3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EF9922-A0C1-4EEF-92FB-F28B1FA62FCA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F2C8E4-41D6-4489-9284-100EBDD32BCA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2CB392-E1BB-4761-AD32-81E38830CF39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Foliennummernplatzhalter 3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983F29-4A1A-4FB0-BE0E-606D8E61C8CF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481B94-42E1-48B8-829E-BA32A64B80DB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A48A7E-5B42-482F-8C5C-02B81E607227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475F61-273F-4282-8C7D-20B5054D5913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5433-9FF3-422D-82C9-2E2422CD3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8989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74640" y="4370040"/>
            <a:ext cx="8989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A6CF-E90E-4E01-A9A9-9AC6F6A80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7464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8120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40D0-4EE3-4D50-BCBF-4BB70DE05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4120" y="17636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53600" y="17636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74640" y="43700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4120" y="43700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53600" y="43700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D8CE-B56E-4935-8B7D-E8F72B107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218E3-8CF7-4AA7-A7A0-A2EC57D44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74640" y="1763640"/>
            <a:ext cx="8989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98401-27F9-4511-AD25-BFDEE1C69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8989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91A6B-17D7-40D5-9D32-C765CD6BF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7BD18-7E15-4ADE-B2B6-5E1ABFEDF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00321-6077-404A-BEEA-540918B58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71400" y="252360"/>
            <a:ext cx="898848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3B6BD-507E-413C-852C-848149FDC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7464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0DBB8-230A-4299-B401-3F4B5B194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74640" y="1763640"/>
            <a:ext cx="8989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5FEA-EBAB-4CF4-869C-99814531F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28120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CD0BB-250D-4D32-A659-78E3BA3A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74640" y="4370040"/>
            <a:ext cx="8989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49248-5316-48FB-96DC-40BA0B892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8989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74640" y="4370040"/>
            <a:ext cx="8989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6927A-BBC7-4205-B7C1-62AF0E1ED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7464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28120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7D79F-A0D1-4716-8BE0-62F7B740A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714120" y="17636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753600" y="17636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74640" y="43700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714120" y="43700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753600" y="43700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57508-ED0F-4257-AE6D-083B2E1B9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96BE21-A029-495A-B2C9-FDACFAA20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74640" y="1763640"/>
            <a:ext cx="8989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87F359-D545-4D07-A4EA-4F08DF07C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8989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6BAE3B-8AB7-4C5E-AA47-0270D2A4C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37153A-3D64-4C3F-9D44-7626F1C49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5151E4-4694-450E-B493-D52A5BDA1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8989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7422-E976-432D-9CAB-D69A4B049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71400" y="252360"/>
            <a:ext cx="898848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2A3CF8-DDC5-41DB-AD19-EFC6635ED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7464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9B91A8-1A06-496E-9CD2-3F35F2AB5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28120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856BFA-C260-4EDC-9FC1-9C80E8A54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74640" y="4370040"/>
            <a:ext cx="8989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8E6ECD-4C5C-4AB9-8C14-B389411DD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8989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74640" y="4370040"/>
            <a:ext cx="8989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75EFC1-C989-4D47-9034-4ED45463E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7464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28120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CFF11D-95F0-4A3D-9574-9866E7432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714120" y="17636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753600" y="17636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74640" y="43700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714120" y="43700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753600" y="43700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885074-C0D5-4568-9AD2-036C326BC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660B76-F38F-4CBC-8157-0DE3A1339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74640" y="1763640"/>
            <a:ext cx="8989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8E3300-D3A4-4753-A3FA-B5529B97A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8989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76B9EF-D6DC-49E9-878A-53AA6C1A8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140A-645B-4E9C-B1EB-207FC33A1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19A371-B5B1-4A7F-9D97-83B69B382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C68FD1-4B60-49ED-B79A-96E568013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71400" y="252360"/>
            <a:ext cx="898848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4B6D61-C63A-4101-930E-760A70C09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7464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F74C97-3CA3-459B-A614-2966F46FE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28120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0F0788-11DC-42BB-B837-43D41CC42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74640" y="4370040"/>
            <a:ext cx="8989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489BD3-5E5A-408F-B397-7511B30EC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8989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74640" y="4370040"/>
            <a:ext cx="8989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22C78A-E23A-431B-B229-0AFDC586E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7464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28120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BAC506-3ED1-406E-B89B-36EE7113B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714120" y="17636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753600" y="17636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74640" y="43700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714120" y="43700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753600" y="43700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EA2917-09E7-4C80-B020-0370504F7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34ED03-EB41-410A-86E3-E6042876F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DFEA-6210-4135-B8F7-287375695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74640" y="1763640"/>
            <a:ext cx="8989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BA61F1-05CD-4DE4-A17F-E1238D624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8989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C18B54-9B59-47EF-BDA2-69EEBF61E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35DC17-7801-44C3-9C00-18A00F42C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A32CDF-1BF6-4FC2-98D6-01C198359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71400" y="252360"/>
            <a:ext cx="898848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9C14D7-E54B-41F3-8873-527DDEB7E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464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F95B11-B509-4594-AC15-4FE348ED8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28120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CEE9A8-5936-4DF0-955A-5588CC860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74640" y="4370040"/>
            <a:ext cx="8989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55E97D-FE3A-46B5-9C58-6744A4AA5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8989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74640" y="4370040"/>
            <a:ext cx="8989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6E4EBB-E443-42FE-A35E-EBB9FB7D5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7464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28120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E3FB0E-9DC4-4B0D-921C-1B3F94178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71400" y="252360"/>
            <a:ext cx="898848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A2C6-8F3A-4405-B101-5BF2497A1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714120" y="17636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753600" y="17636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74640" y="43700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714120" y="43700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753600" y="43700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DF8990-EDE3-4AE1-BE8B-DEF0589AF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2131A9-1E95-4C70-B27B-E18905CAB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74640" y="1763640"/>
            <a:ext cx="8989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5FD756-B616-41F3-A4EC-0D2AF74BE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8989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90A2BA-5AD7-4675-8372-5573615FC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EA5B74-BF86-4F53-80E0-63DEF47F9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DAC460-D55C-48C3-B191-24D553475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71400" y="252360"/>
            <a:ext cx="898848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8C2653-C969-47C6-B860-ABBC7E2A0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7464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1FA9CF-88C9-49B8-A955-E64ED2390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28120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F4E05F-1E32-4B34-A10C-57BF3CEBD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74640" y="4370040"/>
            <a:ext cx="8989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877A15-B911-4E71-8B6C-FE49236D9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7464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D8A3-40A9-43AD-911D-61DDFE7F8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8989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74640" y="4370040"/>
            <a:ext cx="8989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5E1872-1738-4271-B302-2909BEE8A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7464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528120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374E7A-AFFD-4F9D-B3C5-6B91D0605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714120" y="17636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753600" y="17636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74640" y="43700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714120" y="43700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753600" y="43700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441D3F-1F45-4686-B704-94ECC4246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95883D-B3A5-4643-8A06-1F2371A27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74640" y="1763640"/>
            <a:ext cx="8989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2CD46D-6F1C-4E8F-9A34-6F2A74BDB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8989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3F5D2D-BBF6-4E8C-9BFB-B58F581A6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2ADA66-9DDB-4503-8825-801A912AC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F34A85-096D-47B8-A3A9-ECCDAD186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71400" y="252360"/>
            <a:ext cx="898848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37F1CF-6548-4EB6-BC54-603F5980B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7464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DF8F9F-C078-4ECA-BB0A-B462CC836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8120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6603-B7E3-4718-90CC-0DAF87BF5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28120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FE49A5-A282-495F-B1D2-723F8E489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74640" y="4370040"/>
            <a:ext cx="8989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0E04CC-BE66-497F-82DE-E0110461B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8989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74640" y="4370040"/>
            <a:ext cx="8989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2C688C-2C2C-47EE-9E7C-C17C9E2F5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7464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528120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F08C77-43A8-4A31-8DF2-25153771D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714120" y="17636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753600" y="17636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74640" y="43700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714120" y="43700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753600" y="43700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8EBC0E-BDCA-4347-ABAB-54FA606B2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FD21C6-D009-4F16-BF18-1654E7D52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74640" y="1763640"/>
            <a:ext cx="8989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3F4746-EF3F-42A5-84A1-B453276E2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8989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17D79B-7629-4A6E-8D72-A10D2A421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462715-EDA9-4B48-835E-6C5171A2C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2A4E11-674B-4412-9E4F-B3462C694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4640" y="4370040"/>
            <a:ext cx="8989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F4C2-6C11-413E-9690-1D6CCEC64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71400" y="252360"/>
            <a:ext cx="898848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EBBCD1-A261-481D-AE4E-82A871A45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7464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7C5FA8-2346-44E8-98EC-5912E6400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28120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987DA4-2B4A-4790-9D08-0EEA57EC2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74640" y="4370040"/>
            <a:ext cx="8989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DA17BD-4924-4340-99A6-EB45B865B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8989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74640" y="4370040"/>
            <a:ext cx="8989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FE581E-07FA-4207-9626-3034F7A65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7464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528120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3DD06F-FF40-475B-8961-CBA6D7FD1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714120" y="17636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753600" y="17636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74640" y="43700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714120" y="43700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753600" y="43700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B004E6-F512-438A-B5AB-E617EE31E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4640" y="1763640"/>
            <a:ext cx="8989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52440" indent="-352440">
              <a:spcBef>
                <a:spcPts val="774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704880" indent="-301680">
              <a:spcBef>
                <a:spcPts val="774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1006560" indent="-250920">
              <a:spcBef>
                <a:spcPts val="774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3" marL="1511280" indent="-250920">
              <a:spcBef>
                <a:spcPts val="774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4" marL="2014560" indent="-250920">
              <a:spcBef>
                <a:spcPts val="774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5" marL="2014560" indent="-250920">
              <a:spcBef>
                <a:spcPts val="77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6" marL="2014560" indent="-250920">
              <a:spcBef>
                <a:spcPts val="77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719400" y="6887880"/>
            <a:ext cx="294012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71040" y="6887880"/>
            <a:ext cx="597708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hteck 6"/>
          <p:cNvSpPr/>
          <p:nvPr/>
        </p:nvSpPr>
        <p:spPr>
          <a:xfrm>
            <a:off x="0" y="1360440"/>
            <a:ext cx="10080720" cy="3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hteck 7"/>
          <p:cNvSpPr/>
          <p:nvPr/>
        </p:nvSpPr>
        <p:spPr>
          <a:xfrm>
            <a:off x="0" y="1411200"/>
            <a:ext cx="587520" cy="25236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hteck 8"/>
          <p:cNvSpPr/>
          <p:nvPr/>
        </p:nvSpPr>
        <p:spPr>
          <a:xfrm>
            <a:off x="650880" y="1411200"/>
            <a:ext cx="9429840" cy="25236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401480"/>
            <a:ext cx="587520" cy="269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de-DE" sz="15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F545000-DCD2-4613-B47E-43D2E865D47B}" type="slidenum">
              <a:rPr b="1" lang="de-DE" sz="15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hteck 9"/>
          <p:cNvSpPr/>
          <p:nvPr/>
        </p:nvSpPr>
        <p:spPr>
          <a:xfrm>
            <a:off x="0" y="6581880"/>
            <a:ext cx="10080720" cy="97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hteck 10"/>
          <p:cNvSpPr/>
          <p:nvPr/>
        </p:nvSpPr>
        <p:spPr>
          <a:xfrm>
            <a:off x="-9360" y="6672240"/>
            <a:ext cx="2479680" cy="7873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hteck 11"/>
          <p:cNvSpPr/>
          <p:nvPr/>
        </p:nvSpPr>
        <p:spPr>
          <a:xfrm>
            <a:off x="2600280" y="6662880"/>
            <a:ext cx="7480440" cy="785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9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74640" y="1763640"/>
            <a:ext cx="8989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52440" indent="-352440">
              <a:spcBef>
                <a:spcPts val="774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lvl="1" marL="704880" indent="-301680">
              <a:spcBef>
                <a:spcPts val="774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lvl="2" marL="1006560" indent="-250920">
              <a:spcBef>
                <a:spcPts val="774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lvl="3" marL="1511280" indent="-250920">
              <a:spcBef>
                <a:spcPts val="774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lvl="4" marL="2014560" indent="-250920">
              <a:spcBef>
                <a:spcPts val="774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lvl="5" marL="2014560" indent="-250920">
              <a:spcBef>
                <a:spcPts val="774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lvl="6" marL="2014560" indent="-250920">
              <a:spcBef>
                <a:spcPts val="774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83880" y="6689520"/>
            <a:ext cx="2268360" cy="755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298600" y="260280"/>
            <a:ext cx="646920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819640" y="252360"/>
            <a:ext cx="924120" cy="419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de-DE" sz="15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368D7C8-94AA-4183-974F-215C191EFCB6}" type="slidenum">
              <a:rPr b="1" lang="de-DE" sz="15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hteck 9"/>
          <p:cNvSpPr/>
          <p:nvPr/>
        </p:nvSpPr>
        <p:spPr>
          <a:xfrm>
            <a:off x="0" y="1679400"/>
            <a:ext cx="10080720" cy="126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hteck 10"/>
          <p:cNvSpPr/>
          <p:nvPr/>
        </p:nvSpPr>
        <p:spPr>
          <a:xfrm>
            <a:off x="0" y="1763640"/>
            <a:ext cx="1428840" cy="109224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hteck 11"/>
          <p:cNvSpPr/>
          <p:nvPr/>
        </p:nvSpPr>
        <p:spPr>
          <a:xfrm>
            <a:off x="1512720" y="1763640"/>
            <a:ext cx="8568000" cy="1092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74640" y="1763640"/>
            <a:ext cx="8989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52440" indent="-352440">
              <a:spcBef>
                <a:spcPts val="774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704880" indent="-301680">
              <a:spcBef>
                <a:spcPts val="774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1006560" indent="-250920">
              <a:spcBef>
                <a:spcPts val="774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3" marL="1511280" indent="-250920">
              <a:spcBef>
                <a:spcPts val="774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4" marL="2014560" indent="-250920">
              <a:spcBef>
                <a:spcPts val="774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5" marL="2014560" indent="-250920">
              <a:spcBef>
                <a:spcPts val="77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6" marL="2014560" indent="-250920">
              <a:spcBef>
                <a:spcPts val="77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719400" y="6887880"/>
            <a:ext cx="294012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-360" y="1931760"/>
            <a:ext cx="1428840" cy="772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de-DE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6C22098-D530-4DA6-ADDA-1FAD3AF48EE8}" type="slidenum">
              <a:rPr b="1" lang="de-DE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71040" y="6887880"/>
            <a:ext cx="597708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hteck 6"/>
          <p:cNvSpPr/>
          <p:nvPr/>
        </p:nvSpPr>
        <p:spPr>
          <a:xfrm>
            <a:off x="0" y="1360440"/>
            <a:ext cx="10080720" cy="3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hteck 7"/>
          <p:cNvSpPr/>
          <p:nvPr/>
        </p:nvSpPr>
        <p:spPr>
          <a:xfrm>
            <a:off x="0" y="1411200"/>
            <a:ext cx="587520" cy="25236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hteck 8"/>
          <p:cNvSpPr/>
          <p:nvPr/>
        </p:nvSpPr>
        <p:spPr>
          <a:xfrm>
            <a:off x="650880" y="1411200"/>
            <a:ext cx="9429840" cy="25236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4640" y="1763640"/>
            <a:ext cx="8989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52440" indent="-352440">
              <a:spcBef>
                <a:spcPts val="774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704880" indent="-301680">
              <a:spcBef>
                <a:spcPts val="774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1006560" indent="-250920">
              <a:spcBef>
                <a:spcPts val="774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3" marL="1511280" indent="-250920">
              <a:spcBef>
                <a:spcPts val="774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4" marL="2014560" indent="-250920">
              <a:spcBef>
                <a:spcPts val="774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5" marL="2014560" indent="-250920">
              <a:spcBef>
                <a:spcPts val="77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6" marL="2014560" indent="-250920">
              <a:spcBef>
                <a:spcPts val="77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719400" y="6887880"/>
            <a:ext cx="294012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401480"/>
            <a:ext cx="587520" cy="269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de-DE" sz="15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D895767-D734-40B1-8144-4B2E41A61752}" type="slidenum">
              <a:rPr b="1" lang="de-DE" sz="15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71040" y="6887880"/>
            <a:ext cx="597708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hteck 6"/>
          <p:cNvSpPr/>
          <p:nvPr/>
        </p:nvSpPr>
        <p:spPr>
          <a:xfrm>
            <a:off x="0" y="1360440"/>
            <a:ext cx="10080720" cy="3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hteck 7"/>
          <p:cNvSpPr/>
          <p:nvPr/>
        </p:nvSpPr>
        <p:spPr>
          <a:xfrm>
            <a:off x="0" y="1411200"/>
            <a:ext cx="587520" cy="25236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hteck 8"/>
          <p:cNvSpPr/>
          <p:nvPr/>
        </p:nvSpPr>
        <p:spPr>
          <a:xfrm>
            <a:off x="650880" y="1411200"/>
            <a:ext cx="9429840" cy="25236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4640" y="1763640"/>
            <a:ext cx="8989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52440" indent="-352440">
              <a:spcBef>
                <a:spcPts val="774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704880" indent="-301680">
              <a:spcBef>
                <a:spcPts val="774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1006560" indent="-250920">
              <a:spcBef>
                <a:spcPts val="774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3" marL="1511280" indent="-250920">
              <a:spcBef>
                <a:spcPts val="774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4" marL="2014560" indent="-250920">
              <a:spcBef>
                <a:spcPts val="774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5" marL="2014560" indent="-250920">
              <a:spcBef>
                <a:spcPts val="77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6" marL="2014560" indent="-250920">
              <a:spcBef>
                <a:spcPts val="77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719400" y="6887880"/>
            <a:ext cx="294012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401480"/>
            <a:ext cx="587520" cy="269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de-DE" sz="15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BFFB05A-FF11-4173-81E4-F751BCA4B381}" type="slidenum">
              <a:rPr b="1" lang="de-DE" sz="15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71040" y="6887880"/>
            <a:ext cx="597708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4640" y="1763640"/>
            <a:ext cx="8989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52440" indent="-352440">
              <a:spcBef>
                <a:spcPts val="774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704880" indent="-301680">
              <a:spcBef>
                <a:spcPts val="774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1006560" indent="-250920">
              <a:spcBef>
                <a:spcPts val="774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3" marL="1511280" indent="-250920">
              <a:spcBef>
                <a:spcPts val="774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4" marL="2014560" indent="-250920">
              <a:spcBef>
                <a:spcPts val="774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5" marL="2014560" indent="-250920">
              <a:spcBef>
                <a:spcPts val="77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6" marL="2014560" indent="-250920">
              <a:spcBef>
                <a:spcPts val="77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719400" y="6887880"/>
            <a:ext cx="294012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71040" y="6887880"/>
            <a:ext cx="597708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888240"/>
            <a:ext cx="587520" cy="419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de-DE" sz="15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9835315-C95C-4C09-888E-9A6D5FA99665}" type="slidenum">
              <a:rPr b="1" lang="de-DE" sz="15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hteck 9"/>
          <p:cNvSpPr/>
          <p:nvPr/>
        </p:nvSpPr>
        <p:spPr>
          <a:xfrm>
            <a:off x="-9360" y="5040360"/>
            <a:ext cx="10080360" cy="97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hteck 10"/>
          <p:cNvSpPr/>
          <p:nvPr/>
        </p:nvSpPr>
        <p:spPr>
          <a:xfrm>
            <a:off x="-9360" y="5140440"/>
            <a:ext cx="1612800" cy="785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hteck 11"/>
          <p:cNvSpPr/>
          <p:nvPr/>
        </p:nvSpPr>
        <p:spPr>
          <a:xfrm>
            <a:off x="1703520" y="5130720"/>
            <a:ext cx="8377200" cy="78588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hteck 12"/>
          <p:cNvSpPr/>
          <p:nvPr/>
        </p:nvSpPr>
        <p:spPr>
          <a:xfrm>
            <a:off x="1595520" y="0"/>
            <a:ext cx="110880" cy="756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74640" y="1763640"/>
            <a:ext cx="8989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52440" indent="-352440">
              <a:spcBef>
                <a:spcPts val="774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704880" indent="-301680">
              <a:spcBef>
                <a:spcPts val="774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1006560" indent="-250920">
              <a:spcBef>
                <a:spcPts val="774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3" marL="1511280" indent="-250920">
              <a:spcBef>
                <a:spcPts val="774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4" marL="2014560" indent="-250920">
              <a:spcBef>
                <a:spcPts val="774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5" marL="2014560" indent="-250920">
              <a:spcBef>
                <a:spcPts val="77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6" marL="2014560" indent="-250920">
              <a:spcBef>
                <a:spcPts val="77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887880" y="6887880"/>
            <a:ext cx="294012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5144760"/>
            <a:ext cx="1595520" cy="731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de-DE" sz="3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8449658-2779-4083-BBFD-E639AACFA3D3}" type="slidenum">
              <a:rPr b="1" lang="de-DE" sz="3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763280" y="6887880"/>
            <a:ext cx="504036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hteck 9"/>
          <p:cNvSpPr/>
          <p:nvPr/>
        </p:nvSpPr>
        <p:spPr>
          <a:xfrm>
            <a:off x="6721560" y="0"/>
            <a:ext cx="35244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hteck 10"/>
          <p:cNvSpPr/>
          <p:nvPr/>
        </p:nvSpPr>
        <p:spPr>
          <a:xfrm>
            <a:off x="6770520" y="671400"/>
            <a:ext cx="252720" cy="6888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hteck 11"/>
          <p:cNvSpPr/>
          <p:nvPr/>
        </p:nvSpPr>
        <p:spPr>
          <a:xfrm>
            <a:off x="6770520" y="0"/>
            <a:ext cx="252720" cy="587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74640" y="1763640"/>
            <a:ext cx="8989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52440" indent="-352440">
              <a:spcBef>
                <a:spcPts val="774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704880" indent="-301680">
              <a:spcBef>
                <a:spcPts val="774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1006560" indent="-250920">
              <a:spcBef>
                <a:spcPts val="774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3" marL="1511280" indent="-250920">
              <a:spcBef>
                <a:spcPts val="774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4" marL="2014560" indent="-250920">
              <a:spcBef>
                <a:spcPts val="774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5" marL="2014560" indent="-250920">
              <a:spcBef>
                <a:spcPts val="77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6" marL="2014560" indent="-250920">
              <a:spcBef>
                <a:spcPts val="77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7224840" y="6887880"/>
            <a:ext cx="243504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504720" y="6887880"/>
            <a:ext cx="614376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6603840" y="158400"/>
            <a:ext cx="587520" cy="270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de-DE" sz="15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0963223-51F1-4701-A917-EA83D0AFF9EE}" type="slidenum">
              <a:rPr b="1" lang="de-DE" sz="15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1"/>
          <p:cNvSpPr/>
          <p:nvPr/>
        </p:nvSpPr>
        <p:spPr>
          <a:xfrm flipV="1">
            <a:off x="503280" y="207720"/>
            <a:ext cx="9070920" cy="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Text Box 2"/>
          <p:cNvSpPr/>
          <p:nvPr/>
        </p:nvSpPr>
        <p:spPr>
          <a:xfrm>
            <a:off x="6283440" y="6851520"/>
            <a:ext cx="34718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Von Thomas Lieb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0" name="Picture 3" descr=""/>
          <p:cNvPicPr/>
          <p:nvPr/>
        </p:nvPicPr>
        <p:blipFill>
          <a:blip r:embed="rId1"/>
          <a:stretch/>
        </p:blipFill>
        <p:spPr>
          <a:xfrm>
            <a:off x="0" y="-6480"/>
            <a:ext cx="10080720" cy="656604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2603520" y="6668640"/>
            <a:ext cx="7392960" cy="755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w Cen MT"/>
              </a:rPr>
              <a:t>Biogasanlagen</a:t>
            </a:r>
            <a:endParaRPr b="0" lang="en-US" sz="44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med"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74640" y="252360"/>
            <a:ext cx="898992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Funktion einer Biogasanlage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82560" y="1763280"/>
            <a:ext cx="8982000" cy="4956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620640" indent="-514440">
              <a:spcBef>
                <a:spcPts val="774"/>
              </a:spcBef>
              <a:buClr>
                <a:srgbClr val="ffcc99"/>
              </a:buClr>
              <a:buFont typeface="Tw Cen MT"/>
              <a:buAutoNum type="arabicPeriod" startAt="3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1" lang="de-DE" sz="3200" spc="-1" strike="noStrike" u="sng">
                <a:solidFill>
                  <a:srgbClr val="000000"/>
                </a:solidFill>
                <a:uFillTx/>
                <a:latin typeface="Tw Cen MT"/>
              </a:rPr>
              <a:t>Vorgrube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620640" indent="-514440">
              <a:spcBef>
                <a:spcPts val="774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00000"/>
                </a:solidFill>
                <a:latin typeface="Tw Cen MT"/>
              </a:rPr>
              <a:t>Die Vorgrube dient als Zwischenlager für Gülle und Kosubstrate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620640" indent="-514440">
              <a:spcBef>
                <a:spcPts val="774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00000"/>
                </a:solidFill>
                <a:latin typeface="Tw Cen MT"/>
              </a:rPr>
              <a:t>Zusätzlich kann man darin auch Substrate zerkleinern, vermischen und verdünnen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5" name="Picture 3" descr=""/>
          <p:cNvPicPr/>
          <p:nvPr/>
        </p:nvPicPr>
        <p:blipFill>
          <a:blip r:embed="rId1"/>
          <a:stretch/>
        </p:blipFill>
        <p:spPr>
          <a:xfrm>
            <a:off x="6119640" y="4500720"/>
            <a:ext cx="3240360" cy="284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74640" y="252360"/>
            <a:ext cx="898992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Funktion einer Biogasanlage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682560" y="1763640"/>
            <a:ext cx="8982000" cy="551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620640" indent="-514440">
              <a:spcBef>
                <a:spcPts val="774"/>
              </a:spcBef>
              <a:buClr>
                <a:srgbClr val="ffcc99"/>
              </a:buClr>
              <a:buFont typeface="Tw Cen MT"/>
              <a:buAutoNum type="arabicPeriod" startAt="4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1" lang="de-DE" sz="3200" spc="-1" strike="noStrike" u="sng">
                <a:solidFill>
                  <a:srgbClr val="000000"/>
                </a:solidFill>
                <a:uFillTx/>
                <a:latin typeface="Tw Cen MT"/>
              </a:rPr>
              <a:t>Feststoffdosierer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620640" indent="-514440">
              <a:spcBef>
                <a:spcPts val="774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00000"/>
                </a:solidFill>
                <a:latin typeface="Tw Cen MT"/>
              </a:rPr>
              <a:t>Er wird mit kosubstraten befüllt und fördert diese dann, je nach Einstellung eine bestimmte Menge, in den Fermenter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620640" indent="-514440">
              <a:spcBef>
                <a:spcPts val="774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8" name="Picture 3" descr=""/>
          <p:cNvPicPr/>
          <p:nvPr/>
        </p:nvPicPr>
        <p:blipFill>
          <a:blip r:embed="rId1"/>
          <a:stretch/>
        </p:blipFill>
        <p:spPr>
          <a:xfrm>
            <a:off x="1979640" y="3780000"/>
            <a:ext cx="6840360" cy="34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74640" y="252360"/>
            <a:ext cx="898992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Funktion einer Biogasanlage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682560" y="1763280"/>
            <a:ext cx="8982000" cy="4956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620640" indent="-514440">
              <a:spcBef>
                <a:spcPts val="774"/>
              </a:spcBef>
              <a:buClr>
                <a:srgbClr val="ffcc99"/>
              </a:buClr>
              <a:buFont typeface="Tw Cen MT"/>
              <a:buAutoNum type="arabicPeriod" startAt="5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1" lang="de-DE" sz="3200" spc="-1" strike="noStrike" u="sng">
                <a:solidFill>
                  <a:srgbClr val="000000"/>
                </a:solidFill>
                <a:uFillTx/>
                <a:latin typeface="Tw Cen MT"/>
              </a:rPr>
              <a:t>Fermenter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620640" indent="-514440">
              <a:spcBef>
                <a:spcPts val="774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00000"/>
                </a:solidFill>
                <a:latin typeface="Tw Cen MT"/>
              </a:rPr>
              <a:t>In seinem Inneren bauen viele millionen Bakterien die organischen Bestandteile der Eingangstoffe ab und setzten Methan frei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620640" indent="-514440">
              <a:spcBef>
                <a:spcPts val="774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00000"/>
                </a:solidFill>
                <a:latin typeface="Tw Cen MT"/>
              </a:rPr>
              <a:t>Die Prozesstemperatur wird meist auf etwa 33-40 Grad Celsius gehalten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620640" indent="-514440">
              <a:spcBef>
                <a:spcPts val="774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620640" indent="-514440">
              <a:spcBef>
                <a:spcPts val="774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1" name="Picture 3" descr=""/>
          <p:cNvPicPr/>
          <p:nvPr/>
        </p:nvPicPr>
        <p:blipFill>
          <a:blip r:embed="rId1"/>
          <a:stretch/>
        </p:blipFill>
        <p:spPr>
          <a:xfrm>
            <a:off x="5219640" y="4500720"/>
            <a:ext cx="4500720" cy="28796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4" descr=""/>
          <p:cNvPicPr/>
          <p:nvPr/>
        </p:nvPicPr>
        <p:blipFill>
          <a:blip r:embed="rId2"/>
          <a:stretch/>
        </p:blipFill>
        <p:spPr>
          <a:xfrm>
            <a:off x="900000" y="4680000"/>
            <a:ext cx="3959280" cy="25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71040" y="301320"/>
            <a:ext cx="8906040" cy="95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Funktion einer Biogasanlage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0" y="1931760"/>
            <a:ext cx="2540160" cy="478764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51200" rIns="151200" tIns="201600" bIns="100800" anchor="t">
            <a:normAutofit/>
          </a:bodyPr>
          <a:p>
            <a:pPr indent="0">
              <a:spcBef>
                <a:spcPts val="774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w Cen MT"/>
              </a:rPr>
              <a:t>Substratverweildauer im Fermenter     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5" name="Inhaltsplatzhalter 5" descr=""/>
          <p:cNvPicPr/>
          <p:nvPr/>
        </p:nvPicPr>
        <p:blipFill>
          <a:blip r:embed="rId1"/>
          <a:stretch/>
        </p:blipFill>
        <p:spPr>
          <a:xfrm>
            <a:off x="2603520" y="2208240"/>
            <a:ext cx="7056360" cy="4595760"/>
          </a:xfrm>
          <a:prstGeom prst="rect">
            <a:avLst/>
          </a:prstGeom>
          <a:ln w="0">
            <a:noFill/>
          </a:ln>
        </p:spPr>
      </p:pic>
      <p:sp>
        <p:nvSpPr>
          <p:cNvPr id="396" name="Textfeld 8"/>
          <p:cNvSpPr/>
          <p:nvPr/>
        </p:nvSpPr>
        <p:spPr>
          <a:xfrm>
            <a:off x="7831440" y="6708600"/>
            <a:ext cx="8802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dd8047"/>
                </a:solidFill>
                <a:latin typeface="Arial"/>
              </a:rPr>
              <a:t>Zeit / 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feld 10"/>
          <p:cNvSpPr/>
          <p:nvPr/>
        </p:nvSpPr>
        <p:spPr>
          <a:xfrm>
            <a:off x="2619000" y="1779480"/>
            <a:ext cx="12337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dd8047"/>
                </a:solidFill>
                <a:latin typeface="Arial"/>
              </a:rPr>
              <a:t>Abbau / 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74640" y="252360"/>
            <a:ext cx="898992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Trocken oder Nassfermentation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0" y="1763280"/>
            <a:ext cx="9664560" cy="4956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de-DE" sz="3200" spc="-1" strike="noStrike" u="sng">
                <a:solidFill>
                  <a:srgbClr val="000000"/>
                </a:solidFill>
                <a:uFillTx/>
                <a:latin typeface="Tw Cen MT"/>
              </a:rPr>
              <a:t>Trockenfermentation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buClr>
                <a:srgbClr val="ffcc99"/>
              </a:buClr>
              <a:buFont typeface="Courier New"/>
              <a:buChar char="o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00000"/>
                </a:solidFill>
                <a:latin typeface="Tw Cen MT"/>
              </a:rPr>
              <a:t>Hier können Substrate mit weniger als 85% Wassergehalt  zu Biogas verwertet werden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buClr>
                <a:srgbClr val="ffcc99"/>
              </a:buClr>
              <a:buFont typeface="Courier New"/>
              <a:buChar char="o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00000"/>
                </a:solidFill>
                <a:latin typeface="Tw Cen MT"/>
              </a:rPr>
              <a:t>Die Verwendung von Gülle ist nicht mehr zwingend erforderlich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buClr>
                <a:srgbClr val="ffcc99"/>
              </a:buClr>
              <a:buFont typeface="Courier New"/>
              <a:buChar char="o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00000"/>
                </a:solidFill>
                <a:latin typeface="Tw Cen MT"/>
              </a:rPr>
              <a:t>Hier kommen Substrate wie Mais und Grassilage, Getreidepflanzen, Kartoffeln oder Festmist zum Einsatz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74640" y="252360"/>
            <a:ext cx="898992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Trocken oder Nassfermentation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674640" y="1763280"/>
            <a:ext cx="8989920" cy="4956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de-DE" sz="3200" spc="-1" strike="noStrike" u="sng">
                <a:solidFill>
                  <a:srgbClr val="000000"/>
                </a:solidFill>
                <a:uFillTx/>
                <a:latin typeface="Tw Cen MT"/>
              </a:rPr>
              <a:t>Nassfermentation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buClr>
                <a:srgbClr val="ffcc99"/>
              </a:buClr>
              <a:buFont typeface="Courier New"/>
              <a:buChar char="o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00000"/>
                </a:solidFill>
                <a:latin typeface="Tw Cen MT"/>
              </a:rPr>
              <a:t>Es wird unterschieden zwische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w Cen MT"/>
              </a:rPr>
              <a:t>Speicheranlagen</a:t>
            </a:r>
            <a:r>
              <a:rPr b="0" lang="de-DE" sz="2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i="1" lang="de-DE" sz="2600" spc="-1" strike="noStrike">
                <a:solidFill>
                  <a:srgbClr val="000000"/>
                </a:solidFill>
                <a:latin typeface="Tw Cen MT"/>
              </a:rPr>
              <a:t>oder</a:t>
            </a:r>
            <a:r>
              <a:rPr b="0" lang="de-DE" sz="2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lang="de-DE" sz="2800" spc="-1" strike="noStrike">
                <a:solidFill>
                  <a:srgbClr val="000000"/>
                </a:solidFill>
                <a:latin typeface="Tw Cen MT"/>
              </a:rPr>
              <a:t>Durchflussanlagen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74640" y="252360"/>
            <a:ext cx="898992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Trocken oder Nassfermentation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674640" y="1763280"/>
            <a:ext cx="8989920" cy="4956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100800" rIns="100800" tIns="50400" bIns="50400" anchor="t">
            <a:normAutofit/>
          </a:bodyPr>
          <a:p>
            <a:pPr marL="431640" indent="-322200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de-DE" sz="3000" spc="-1" strike="noStrike" u="sng">
                <a:solidFill>
                  <a:srgbClr val="000000"/>
                </a:solidFill>
                <a:uFillTx/>
                <a:latin typeface="Tw Cen MT"/>
              </a:rPr>
              <a:t>Speicheranlagen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lnSpc>
                <a:spcPct val="90000"/>
              </a:lnSpc>
              <a:spcBef>
                <a:spcPts val="774"/>
              </a:spcBef>
              <a:buClr>
                <a:srgbClr val="ffcc99"/>
              </a:buClr>
              <a:buFont typeface="Courier New"/>
              <a:buChar char="o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w Cen MT"/>
              </a:rPr>
              <a:t>Günstig in der Herstellung und einfach im Betrieb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lnSpc>
                <a:spcPct val="90000"/>
              </a:lnSpc>
              <a:spcBef>
                <a:spcPts val="774"/>
              </a:spcBef>
              <a:buClr>
                <a:srgbClr val="ffcc99"/>
              </a:buClr>
              <a:buFont typeface="Courier New"/>
              <a:buChar char="o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w Cen MT"/>
              </a:rPr>
              <a:t>Keine kontinuierliche Produktion von Biogas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00000"/>
                </a:solidFill>
                <a:latin typeface="Tw Cen MT"/>
              </a:rPr>
              <a:t>Da bei einer Speicheranlage der Fermenter gleichzeitig das Gärrückstandslager bildet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00000"/>
                </a:solidFill>
                <a:latin typeface="Tw Cen MT"/>
              </a:rPr>
              <a:t>Der Fermenter muss geöffnet werden, wenn das Substrat vollständig ausgefault is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00000"/>
                </a:solidFill>
                <a:latin typeface="Tw Cen MT"/>
              </a:rPr>
              <a:t>Erst dann ist eine neue Inbetriebnahme möglich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404" name="AutoShape 3"/>
          <p:cNvCxnSpPr>
            <a:stCxn id="403" idx="0"/>
            <a:endCxn id="403" idx="0"/>
          </p:cNvCxnSpPr>
          <p:nvPr/>
        </p:nvCxnSpPr>
        <p:spPr>
          <a:xfrm flipH="1" flipV="1" rot="5400000">
            <a:off x="5486760" y="1762920"/>
            <a:ext cx="2520" cy="2520"/>
          </a:xfrm>
          <a:prstGeom prst="bentConnector3">
            <a:avLst>
              <a:gd name="adj1" fmla="val 14383333"/>
            </a:avLst>
          </a:prstGeom>
          <a:ln w="9360">
            <a:solidFill>
              <a:srgbClr val="000000"/>
            </a:solidFill>
            <a:round/>
          </a:ln>
        </p:spPr>
      </p:cxnSp>
      <p:sp>
        <p:nvSpPr>
          <p:cNvPr id="405" name="Nach rechts gekrümmter Pfeil 20"/>
          <p:cNvSpPr/>
          <p:nvPr/>
        </p:nvSpPr>
        <p:spPr>
          <a:xfrm>
            <a:off x="39600" y="2994120"/>
            <a:ext cx="714600" cy="928440"/>
          </a:xfrm>
          <a:custGeom>
            <a:avLst/>
            <a:gdLst>
              <a:gd name="textAreaLeft" fmla="*/ 95760 w 714600"/>
              <a:gd name="textAreaRight" fmla="*/ 618840 w 714600"/>
              <a:gd name="textAreaTop" fmla="*/ 164880 h 928440"/>
              <a:gd name="textAreaBottom" fmla="*/ 673920 h 92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685" stAng="-5400000" swAng="-5400000"/>
                <a:lnTo>
                  <a:pt x="0" y="11839"/>
                </a:lnTo>
                <a:arcTo wR="21600" hR="7685" stAng="10800000" swAng="-3241763"/>
                <a:lnTo>
                  <a:pt x="16200" y="21356"/>
                </a:lnTo>
                <a:lnTo>
                  <a:pt x="21600" y="17446"/>
                </a:lnTo>
                <a:lnTo>
                  <a:pt x="16200" y="13048"/>
                </a:lnTo>
                <a:lnTo>
                  <a:pt x="16200" y="15125"/>
                </a:lnTo>
                <a:arcTo wR="21600" hR="7685" stAng="7558237" swAng="2899554"/>
                <a:lnTo>
                  <a:pt x="804" y="9762"/>
                </a:lnTo>
                <a:arcTo wR="21600" hR="7685" stAng="-10457791" swAng="5057791"/>
                <a:close/>
              </a:path>
              <a:path fill="darkenLess" w="21600" h="21600">
                <a:moveTo>
                  <a:pt x="21600" y="0"/>
                </a:moveTo>
                <a:arcTo wR="21600" hR="7685" stAng="-5400000" swAng="-5400000"/>
                <a:lnTo>
                  <a:pt x="0" y="7685"/>
                </a:lnTo>
                <a:arcTo wR="21600" hR="7685" stAng="10800000" swAng="-342209"/>
                <a:lnTo>
                  <a:pt x="804" y="9762"/>
                </a:lnTo>
                <a:arcTo wR="21600" hR="7685" stAng="-10457791" swAng="5057791"/>
                <a:close/>
              </a:path>
            </a:pathLst>
          </a:custGeom>
          <a:solidFill>
            <a:srgbClr val="94b6d2"/>
          </a:solidFill>
          <a:ln w="1908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Nach rechts gekrümmter Pfeil 22"/>
          <p:cNvSpPr/>
          <p:nvPr/>
        </p:nvSpPr>
        <p:spPr>
          <a:xfrm>
            <a:off x="39600" y="4137120"/>
            <a:ext cx="714600" cy="1143000"/>
          </a:xfrm>
          <a:custGeom>
            <a:avLst/>
            <a:gdLst>
              <a:gd name="textAreaLeft" fmla="*/ 95760 w 714600"/>
              <a:gd name="textAreaRight" fmla="*/ 618840 w 714600"/>
              <a:gd name="textAreaTop" fmla="*/ 218520 h 1143000"/>
              <a:gd name="textAreaBottom" fmla="*/ 83520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269" stAng="-5400000" swAng="-5400000"/>
                <a:lnTo>
                  <a:pt x="0" y="11645"/>
                </a:lnTo>
                <a:arcTo wR="21600" hR="8269" stAng="10800000" swAng="-3360022"/>
                <a:lnTo>
                  <a:pt x="16200" y="21337"/>
                </a:lnTo>
                <a:lnTo>
                  <a:pt x="21600" y="18225"/>
                </a:lnTo>
                <a:lnTo>
                  <a:pt x="16200" y="14587"/>
                </a:lnTo>
                <a:lnTo>
                  <a:pt x="16200" y="16274"/>
                </a:lnTo>
                <a:arcTo wR="21600" hR="8269" stAng="7439978" swAng="3086170"/>
                <a:lnTo>
                  <a:pt x="455" y="9957"/>
                </a:lnTo>
                <a:arcTo wR="21600" hR="8269" stAng="-10526148" swAng="5126148"/>
                <a:close/>
              </a:path>
              <a:path fill="darkenLess" w="21600" h="21600">
                <a:moveTo>
                  <a:pt x="21600" y="0"/>
                </a:moveTo>
                <a:arcTo wR="21600" hR="8269" stAng="-5400000" swAng="-5400000"/>
                <a:lnTo>
                  <a:pt x="0" y="8269"/>
                </a:lnTo>
                <a:arcTo wR="21600" hR="8269" stAng="10800000" swAng="-273852"/>
                <a:lnTo>
                  <a:pt x="455" y="9957"/>
                </a:lnTo>
                <a:arcTo wR="21600" hR="8269" stAng="-10526148" swAng="5126148"/>
                <a:close/>
              </a:path>
            </a:pathLst>
          </a:custGeom>
          <a:solidFill>
            <a:srgbClr val="94b6d2"/>
          </a:solidFill>
          <a:ln w="1908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Nach rechts gekrümmter Pfeil 24"/>
          <p:cNvSpPr/>
          <p:nvPr/>
        </p:nvSpPr>
        <p:spPr>
          <a:xfrm>
            <a:off x="39600" y="5351400"/>
            <a:ext cx="714600" cy="1214640"/>
          </a:xfrm>
          <a:custGeom>
            <a:avLst/>
            <a:gdLst>
              <a:gd name="textAreaLeft" fmla="*/ 95760 w 714600"/>
              <a:gd name="textAreaRight" fmla="*/ 618840 w 714600"/>
              <a:gd name="textAreaTop" fmla="*/ 236520 h 1214640"/>
              <a:gd name="textAreaBottom" fmla="*/ 88884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418" stAng="-5400000" swAng="-5400000"/>
                <a:lnTo>
                  <a:pt x="0" y="11595"/>
                </a:lnTo>
                <a:arcTo wR="21600" hR="8418" stAng="10800000" swAng="-3388389"/>
                <a:lnTo>
                  <a:pt x="16200" y="21333"/>
                </a:lnTo>
                <a:lnTo>
                  <a:pt x="21600" y="18424"/>
                </a:lnTo>
                <a:lnTo>
                  <a:pt x="16200" y="14980"/>
                </a:lnTo>
                <a:lnTo>
                  <a:pt x="16200" y="16568"/>
                </a:lnTo>
                <a:arcTo wR="21600" hR="8418" stAng="7411611" swAng="3131425"/>
                <a:lnTo>
                  <a:pt x="388" y="10006"/>
                </a:lnTo>
                <a:arcTo wR="21600" hR="8418" stAng="-10543036" swAng="5143036"/>
                <a:close/>
              </a:path>
              <a:path fill="darkenLess" w="21600" h="21600">
                <a:moveTo>
                  <a:pt x="21600" y="0"/>
                </a:moveTo>
                <a:arcTo wR="21600" hR="8418" stAng="-5400000" swAng="-5400000"/>
                <a:lnTo>
                  <a:pt x="0" y="8418"/>
                </a:lnTo>
                <a:arcTo wR="21600" hR="8418" stAng="10800000" swAng="-256964"/>
                <a:lnTo>
                  <a:pt x="388" y="10006"/>
                </a:lnTo>
                <a:arcTo wR="21600" hR="8418" stAng="-10543036" swAng="5143036"/>
                <a:close/>
              </a:path>
            </a:pathLst>
          </a:custGeom>
          <a:solidFill>
            <a:srgbClr val="94b6d2"/>
          </a:solidFill>
          <a:ln w="1908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74640" y="252360"/>
            <a:ext cx="898992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Trocken oder Nassfermentation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674640" y="1763280"/>
            <a:ext cx="8989920" cy="4956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de-DE" sz="3200" spc="-1" strike="noStrike" u="sng">
                <a:solidFill>
                  <a:srgbClr val="000000"/>
                </a:solidFill>
                <a:uFillTx/>
                <a:latin typeface="Tw Cen MT"/>
              </a:rPr>
              <a:t>Durchflussanlage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Tw Cen MT"/>
              </a:rPr>
              <a:t>Sie besitzt mehrere Stationen, durch die das Substrat automatisch fließt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Tw Cen MT"/>
              </a:rPr>
              <a:t>Kontinuierliche Produktion von Biogas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Tw Cen MT"/>
              </a:rPr>
              <a:t>Da das ausgefaulte Substrat in ein Gärrückstandslager gepumpt wird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0" name="Nach rechts gekrümmter Pfeil 5"/>
          <p:cNvSpPr/>
          <p:nvPr/>
        </p:nvSpPr>
        <p:spPr>
          <a:xfrm>
            <a:off x="254160" y="2922480"/>
            <a:ext cx="500040" cy="1143000"/>
          </a:xfrm>
          <a:custGeom>
            <a:avLst/>
            <a:gdLst>
              <a:gd name="textAreaLeft" fmla="*/ 66960 w 500040"/>
              <a:gd name="textAreaRight" fmla="*/ 433080 w 500040"/>
              <a:gd name="textAreaTop" fmla="*/ 238680 h 1143000"/>
              <a:gd name="textAreaBottom" fmla="*/ 8416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028" stAng="-5400000" swAng="-5400000"/>
                <a:lnTo>
                  <a:pt x="0" y="11391"/>
                </a:lnTo>
                <a:arcTo wR="21600" hR="9028" stAng="10800000" swAng="-3497645"/>
                <a:lnTo>
                  <a:pt x="16200" y="21313"/>
                </a:lnTo>
                <a:lnTo>
                  <a:pt x="21600" y="19238"/>
                </a:lnTo>
                <a:lnTo>
                  <a:pt x="16200" y="16588"/>
                </a:lnTo>
                <a:lnTo>
                  <a:pt x="16200" y="17769"/>
                </a:lnTo>
                <a:arcTo wR="21600" hR="9028" stAng="7302355" swAng="3308164"/>
                <a:lnTo>
                  <a:pt x="186" y="10210"/>
                </a:lnTo>
                <a:arcTo wR="21600" hR="9028" stAng="-10610519" swAng="5210519"/>
                <a:close/>
              </a:path>
              <a:path fill="darkenLess" w="21600" h="21600">
                <a:moveTo>
                  <a:pt x="21600" y="0"/>
                </a:moveTo>
                <a:arcTo wR="21600" hR="9028" stAng="-5400000" swAng="-5400000"/>
                <a:lnTo>
                  <a:pt x="0" y="9028"/>
                </a:lnTo>
                <a:arcTo wR="21600" hR="9028" stAng="10800000" swAng="-189481"/>
                <a:lnTo>
                  <a:pt x="186" y="10210"/>
                </a:lnTo>
                <a:arcTo wR="21600" hR="9028" stAng="-10610519" swAng="5210519"/>
                <a:close/>
              </a:path>
            </a:pathLst>
          </a:custGeom>
          <a:solidFill>
            <a:srgbClr val="94b6d2"/>
          </a:solidFill>
          <a:ln w="1908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Nach rechts gekrümmter Pfeil 7"/>
          <p:cNvSpPr/>
          <p:nvPr/>
        </p:nvSpPr>
        <p:spPr>
          <a:xfrm>
            <a:off x="254160" y="4280040"/>
            <a:ext cx="500040" cy="1285560"/>
          </a:xfrm>
          <a:custGeom>
            <a:avLst/>
            <a:gdLst>
              <a:gd name="textAreaLeft" fmla="*/ 66960 w 500040"/>
              <a:gd name="textAreaRight" fmla="*/ 433080 w 500040"/>
              <a:gd name="textAreaTop" fmla="*/ 274320 h 1285560"/>
              <a:gd name="textAreaBottom" fmla="*/ 948600 h 1285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225" stAng="-5400000" swAng="-5400000"/>
                <a:lnTo>
                  <a:pt x="0" y="11325"/>
                </a:lnTo>
                <a:arcTo wR="21600" hR="9225" stAng="10800000" swAng="-3530663"/>
                <a:lnTo>
                  <a:pt x="16200" y="21307"/>
                </a:lnTo>
                <a:lnTo>
                  <a:pt x="21600" y="19500"/>
                </a:lnTo>
                <a:lnTo>
                  <a:pt x="16200" y="17107"/>
                </a:lnTo>
                <a:lnTo>
                  <a:pt x="16200" y="18157"/>
                </a:lnTo>
                <a:arcTo wR="21600" hR="9225" stAng="7269337" swAng="3362591"/>
                <a:lnTo>
                  <a:pt x="140" y="10275"/>
                </a:lnTo>
                <a:arcTo wR="21600" hR="9225" stAng="-10631928" swAng="5231928"/>
                <a:close/>
              </a:path>
              <a:path fill="darkenLess" w="21600" h="21600">
                <a:moveTo>
                  <a:pt x="21600" y="0"/>
                </a:moveTo>
                <a:arcTo wR="21600" hR="9225" stAng="-5400000" swAng="-5400000"/>
                <a:lnTo>
                  <a:pt x="0" y="9225"/>
                </a:lnTo>
                <a:arcTo wR="21600" hR="9225" stAng="10800000" swAng="-168072"/>
                <a:lnTo>
                  <a:pt x="140" y="10275"/>
                </a:lnTo>
                <a:arcTo wR="21600" hR="9225" stAng="-10631928" swAng="5231928"/>
                <a:close/>
              </a:path>
            </a:pathLst>
          </a:custGeom>
          <a:solidFill>
            <a:srgbClr val="94b6d2"/>
          </a:solidFill>
          <a:ln w="1908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74640" y="252360"/>
            <a:ext cx="898992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Funktion einer Biogasanlage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674640" y="1763280"/>
            <a:ext cx="8989920" cy="4956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620640" indent="-514440">
              <a:spcBef>
                <a:spcPts val="774"/>
              </a:spcBef>
              <a:buClr>
                <a:srgbClr val="ffcc99"/>
              </a:buClr>
              <a:buFont typeface="Tw Cen MT"/>
              <a:buAutoNum type="arabicPeriod" startAt="6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1" lang="de-DE" sz="3200" spc="-1" strike="noStrike" u="sng">
                <a:solidFill>
                  <a:srgbClr val="000000"/>
                </a:solidFill>
                <a:uFillTx/>
                <a:latin typeface="Tw Cen MT"/>
              </a:rPr>
              <a:t>Gärrückstandslager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620640" indent="-514440">
              <a:spcBef>
                <a:spcPts val="774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620640" indent="-514440">
              <a:spcBef>
                <a:spcPts val="774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00000"/>
                </a:solidFill>
                <a:latin typeface="Tw Cen MT"/>
              </a:rPr>
              <a:t>Hier werden die Reste der Gärung gelagert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620640" indent="-514440">
              <a:spcBef>
                <a:spcPts val="774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00000"/>
                </a:solidFill>
                <a:latin typeface="Tw Cen MT"/>
              </a:rPr>
              <a:t>Sie werden von hier aus als Dünger auf die Felder gebracht, da sie noch wertvolle Stoffe enthalten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620640" indent="-514440">
              <a:spcBef>
                <a:spcPts val="774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620640" indent="-514440">
              <a:spcBef>
                <a:spcPts val="774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620640" indent="-514440">
              <a:spcBef>
                <a:spcPts val="774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620640" indent="-514440">
              <a:spcBef>
                <a:spcPts val="774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74640" y="252360"/>
            <a:ext cx="898992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Chemische Reaktionen im Fermenter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15" name="Picture 2" descr=""/>
          <p:cNvPicPr/>
          <p:nvPr/>
        </p:nvPicPr>
        <p:blipFill>
          <a:blip r:embed="rId1"/>
          <a:stretch/>
        </p:blipFill>
        <p:spPr>
          <a:xfrm>
            <a:off x="1611360" y="2208240"/>
            <a:ext cx="5829120" cy="42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Einsatz von Biogasanlagen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-36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30200" indent="-324000">
              <a:spcBef>
                <a:spcPts val="774"/>
              </a:spcBef>
              <a:buClr>
                <a:srgbClr val="ffcc99"/>
              </a:buClr>
              <a:buFont typeface="Courier New"/>
              <a:buChar char="o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1" i="1" lang="de-DE" sz="3200" spc="-1" strike="noStrike" u="sng">
                <a:solidFill>
                  <a:srgbClr val="000000"/>
                </a:solidFill>
                <a:uFillTx/>
                <a:latin typeface="Tw Cen MT"/>
              </a:rPr>
              <a:t>Vorkommen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430200" indent="-324000">
              <a:spcBef>
                <a:spcPts val="774"/>
              </a:spcBef>
              <a:buClr>
                <a:srgbClr val="ffcc99"/>
              </a:buClr>
              <a:buSzPct val="45000"/>
              <a:buFont typeface="Wingdings" charset="2"/>
              <a:buChar char="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Tw Cen MT"/>
              </a:rPr>
              <a:t>Landwirtschaf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430200" indent="-324000">
              <a:spcBef>
                <a:spcPts val="774"/>
              </a:spcBef>
              <a:buClr>
                <a:srgbClr val="ffcc99"/>
              </a:buClr>
              <a:buSzPct val="45000"/>
              <a:buFont typeface="Wingdings" charset="2"/>
              <a:buChar char="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Tw Cen MT"/>
              </a:rPr>
              <a:t>Ernährungs-und Agrar-Industrie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430200" indent="-324000">
              <a:spcBef>
                <a:spcPts val="774"/>
              </a:spcBef>
              <a:buClr>
                <a:srgbClr val="ffcc99"/>
              </a:buClr>
              <a:buSzPct val="45000"/>
              <a:buFont typeface="Wingdings" charset="2"/>
              <a:buChar char="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Tw Cen MT"/>
              </a:rPr>
              <a:t>Kommunalen Entsorgung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430200" indent="-324000">
              <a:spcBef>
                <a:spcPts val="774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74640" y="252360"/>
            <a:ext cx="898992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Biogas Zusammensetzung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674640" y="1763280"/>
            <a:ext cx="8989920" cy="495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w Cen MT"/>
              </a:rPr>
              <a:t>Das entstandene Biogas besteht aus</a:t>
            </a:r>
            <a:r>
              <a:rPr b="0" lang="de-DE" sz="3200" spc="-1" strike="noStrike">
                <a:solidFill>
                  <a:srgbClr val="000000"/>
                </a:solidFill>
                <a:latin typeface="Tw Cen MT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buClr>
                <a:srgbClr val="ffcc99"/>
              </a:buClr>
              <a:buFont typeface="Wingdings" charset="2"/>
              <a:buChar char="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w Cen MT"/>
              </a:rPr>
              <a:t>50-65 %  energiereichem Methan ( CH</a:t>
            </a:r>
            <a:r>
              <a:rPr b="0" lang="de-DE" sz="2600" spc="-1" strike="noStrike" baseline="-33000">
                <a:solidFill>
                  <a:srgbClr val="000000"/>
                </a:solidFill>
                <a:latin typeface="Tw Cen MT"/>
              </a:rPr>
              <a:t>4</a:t>
            </a:r>
            <a:r>
              <a:rPr b="0" lang="de-DE" sz="2600" spc="-1" strike="noStrike">
                <a:solidFill>
                  <a:srgbClr val="000000"/>
                </a:solidFill>
                <a:latin typeface="Tw Cen MT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buClr>
                <a:srgbClr val="ffcc99"/>
              </a:buClr>
              <a:buFont typeface="Wingdings" charset="2"/>
              <a:buChar char="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w Cen MT"/>
              </a:rPr>
              <a:t>35-50 %  Kohlendioxid (CO</a:t>
            </a:r>
            <a:r>
              <a:rPr b="0" lang="de-DE" sz="2600" spc="-1" strike="noStrike" baseline="-33000">
                <a:solidFill>
                  <a:srgbClr val="000000"/>
                </a:solidFill>
                <a:latin typeface="Tw Cen MT"/>
              </a:rPr>
              <a:t>2</a:t>
            </a:r>
            <a:r>
              <a:rPr b="0" lang="de-DE" sz="2600" spc="-1" strike="noStrike">
                <a:solidFill>
                  <a:srgbClr val="000000"/>
                </a:solidFill>
                <a:latin typeface="Tw Cen MT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buClr>
                <a:srgbClr val="ffcc99"/>
              </a:buClr>
              <a:buFont typeface="Wingdings" charset="2"/>
              <a:buChar char="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w Cen MT"/>
              </a:rPr>
              <a:t>     </a:t>
            </a:r>
            <a:r>
              <a:rPr b="0" lang="de-DE" sz="2600" spc="-1" strike="noStrike">
                <a:solidFill>
                  <a:srgbClr val="000000"/>
                </a:solidFill>
                <a:latin typeface="Tw Cen MT"/>
              </a:rPr>
              <a:t>&lt;1 %  Schwefelwasserstoff</a:t>
            </a:r>
            <a:r>
              <a:rPr b="0" lang="de-DE" sz="32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buClr>
                <a:srgbClr val="ffcc99"/>
              </a:buClr>
              <a:buFont typeface="Wingdings" charset="2"/>
              <a:buChar char="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w Cen MT"/>
              </a:rPr>
              <a:t>Spurengasen ( Wasserdampf, Stickstoff, Sauerstoff 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74640" y="252360"/>
            <a:ext cx="898992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Biogas Zusammensetzung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674640" y="1763280"/>
            <a:ext cx="8989920" cy="495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100800" rIns="100800" tIns="23040" bIns="50400" anchor="t">
            <a:normAutofit/>
          </a:bodyPr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w Cen MT"/>
              </a:rPr>
              <a:t>Biogas enthält </a:t>
            </a:r>
            <a:r>
              <a:rPr b="1" lang="de-DE" sz="2600" spc="-1" strike="noStrike">
                <a:solidFill>
                  <a:srgbClr val="000000"/>
                </a:solidFill>
                <a:latin typeface="Tw Cen MT"/>
              </a:rPr>
              <a:t>Schwefelwasserstoff</a:t>
            </a:r>
            <a:r>
              <a:rPr b="0" lang="de-DE" sz="2600" spc="-1" strike="noStrike">
                <a:solidFill>
                  <a:srgbClr val="000000"/>
                </a:solidFill>
                <a:latin typeface="Tw Cen MT"/>
              </a:rPr>
              <a:t>         10-125 mg/m³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w Cen MT"/>
              </a:rPr>
              <a:t>                    </a:t>
            </a:r>
            <a:r>
              <a:rPr b="0" lang="de-DE" sz="2600" spc="-1" strike="noStrike">
                <a:solidFill>
                  <a:srgbClr val="000000"/>
                </a:solidFill>
                <a:latin typeface="Tw Cen MT"/>
              </a:rPr>
              <a:t>hohe Toxität / Korrosions bildend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de-DE" sz="3200" spc="-1" strike="noStrike" u="sng">
                <a:solidFill>
                  <a:srgbClr val="000000"/>
                </a:solidFill>
                <a:uFillTx/>
                <a:latin typeface="Tw Cen MT"/>
              </a:rPr>
              <a:t>Entschwefelung: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buClr>
                <a:srgbClr val="dd8047"/>
              </a:buClr>
              <a:buFont typeface="Tw Cen MT"/>
              <a:buAutoNum type="arabicParenR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i="1" lang="de-DE" sz="2600" spc="-1" strike="noStrike">
                <a:solidFill>
                  <a:srgbClr val="000000"/>
                </a:solidFill>
                <a:latin typeface="Tw Cen MT"/>
              </a:rPr>
              <a:t>Biologische Entschwefelung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buClr>
                <a:srgbClr val="dd8047"/>
              </a:buClr>
              <a:buFont typeface="Tw Cen MT"/>
              <a:buAutoNum type="arabicParenR" startAt="2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i="1" lang="de-DE" sz="2600" spc="-1" strike="noStrike">
                <a:solidFill>
                  <a:srgbClr val="000000"/>
                </a:solidFill>
                <a:latin typeface="Tw Cen MT"/>
              </a:rPr>
              <a:t>Chemische Entschwefelung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0" name="Pfeil nach rechts 5"/>
          <p:cNvSpPr/>
          <p:nvPr/>
        </p:nvSpPr>
        <p:spPr>
          <a:xfrm>
            <a:off x="5826240" y="1851120"/>
            <a:ext cx="571320" cy="28548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dd80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feil nach unten 6"/>
          <p:cNvSpPr/>
          <p:nvPr/>
        </p:nvSpPr>
        <p:spPr>
          <a:xfrm>
            <a:off x="4826160" y="2279520"/>
            <a:ext cx="285480" cy="571680"/>
          </a:xfrm>
          <a:prstGeom prst="downArrow">
            <a:avLst>
              <a:gd name="adj1" fmla="val 50000"/>
              <a:gd name="adj2" fmla="val 50063"/>
            </a:avLst>
          </a:prstGeom>
          <a:solidFill>
            <a:srgbClr val="dd8047"/>
          </a:solidFill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71040" y="301320"/>
            <a:ext cx="8906040" cy="95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(Vor) Entschwefelungsverfahren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-360" y="1931760"/>
            <a:ext cx="2436840" cy="478764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51200" rIns="151200" tIns="201600" bIns="100800" anchor="t">
            <a:normAutofit/>
          </a:bodyPr>
          <a:p>
            <a:pPr indent="0">
              <a:spcBef>
                <a:spcPts val="774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ffffff"/>
                </a:solidFill>
                <a:uFillTx/>
                <a:latin typeface="Tw Cen MT"/>
              </a:rPr>
              <a:t>Biologische Entschwefelu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74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w Cen MT"/>
              </a:rPr>
              <a:t>Effektive mikrobiologische Entschwefelung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24" name="Inhaltsplatzhalter 7" descr="Prechtlabb.5.jpg"/>
          <p:cNvPicPr/>
          <p:nvPr/>
        </p:nvPicPr>
        <p:blipFill>
          <a:blip r:embed="rId1"/>
          <a:stretch/>
        </p:blipFill>
        <p:spPr>
          <a:xfrm>
            <a:off x="3306600" y="1932120"/>
            <a:ext cx="5650200" cy="48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74640" y="252360"/>
            <a:ext cx="898992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(Vor) Entschwefelungsverfahren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674640" y="1763280"/>
            <a:ext cx="8989920" cy="4956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23040" bIns="50400" anchor="t">
            <a:normAutofit/>
          </a:bodyPr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2600" spc="-1" strike="noStrike" u="sng">
                <a:solidFill>
                  <a:srgbClr val="000000"/>
                </a:solidFill>
                <a:uFillTx/>
                <a:latin typeface="Tw Cen MT"/>
              </a:rPr>
              <a:t>Chemische Entschwefelung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buClr>
                <a:srgbClr val="dd8047"/>
              </a:buClr>
              <a:buFont typeface="Wingdings" charset="2"/>
              <a:buChar char="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00000"/>
                </a:solidFill>
                <a:latin typeface="Tw Cen MT"/>
              </a:rPr>
              <a:t>Basiert auf der Zugabe von Stoffen in den Fermenter, die den Schwefel binden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buClr>
                <a:srgbClr val="dd8047"/>
              </a:buClr>
              <a:buFont typeface="Wingdings" charset="2"/>
              <a:buChar char="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00000"/>
                </a:solidFill>
                <a:latin typeface="Tw Cen MT"/>
              </a:rPr>
              <a:t>Hierbei wird vor allem Eisenoxid verwendet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74640" y="252360"/>
            <a:ext cx="898992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(Haupt) Entschwefelungsverfahren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674640" y="1823760"/>
            <a:ext cx="8989920" cy="4956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w Cen MT"/>
              </a:rPr>
              <a:t>Schwefelwasserstoffentfernung mit Aktivkohle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w Cen MT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w Cen MT"/>
              </a:rPr>
              <a:t>                   </a:t>
            </a:r>
            <a:r>
              <a:rPr b="0" lang="de-DE" sz="3200" spc="-1" strike="noStrike">
                <a:solidFill>
                  <a:srgbClr val="000000"/>
                </a:solidFill>
                <a:latin typeface="Tw Cen MT"/>
              </a:rPr>
              <a:t>(Feinentschwefelung)                               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29" name="Picture 3" descr=""/>
          <p:cNvPicPr/>
          <p:nvPr/>
        </p:nvPicPr>
        <p:blipFill>
          <a:blip r:embed="rId1"/>
          <a:stretch/>
        </p:blipFill>
        <p:spPr>
          <a:xfrm>
            <a:off x="1440000" y="3780000"/>
            <a:ext cx="6840360" cy="3240000"/>
          </a:xfrm>
          <a:prstGeom prst="rect">
            <a:avLst/>
          </a:prstGeom>
          <a:ln w="0">
            <a:noFill/>
          </a:ln>
        </p:spPr>
      </p:pic>
      <p:sp>
        <p:nvSpPr>
          <p:cNvPr id="430" name="Pfeil nach unten 5"/>
          <p:cNvSpPr/>
          <p:nvPr/>
        </p:nvSpPr>
        <p:spPr>
          <a:xfrm>
            <a:off x="3540240" y="2422440"/>
            <a:ext cx="2214360" cy="642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558bb8"/>
          </a:solidFill>
          <a:ln w="9360">
            <a:solidFill>
              <a:srgbClr val="bfd3e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74640" y="252360"/>
            <a:ext cx="898992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(Haupt) Entschwefelungsverfahren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32" name="Picture 2" descr=""/>
          <p:cNvPicPr/>
          <p:nvPr/>
        </p:nvPicPr>
        <p:blipFill>
          <a:blip r:embed="rId1"/>
          <a:stretch/>
        </p:blipFill>
        <p:spPr>
          <a:xfrm>
            <a:off x="900000" y="2160720"/>
            <a:ext cx="7769160" cy="45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74640" y="252360"/>
            <a:ext cx="898992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Gastrocknung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682560" y="1850760"/>
            <a:ext cx="8988480" cy="4956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52440" indent="-352440">
              <a:spcBef>
                <a:spcPts val="774"/>
              </a:spcBef>
              <a:buClr>
                <a:srgbClr val="dd8047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w Cen MT"/>
              </a:rPr>
              <a:t>Wird unterteilt in: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52440" indent="-352440">
              <a:spcBef>
                <a:spcPts val="774"/>
              </a:spcBef>
              <a:buClr>
                <a:srgbClr val="dd8047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52440" indent="-352440">
              <a:spcBef>
                <a:spcPts val="774"/>
              </a:spcBef>
              <a:buClr>
                <a:srgbClr val="dd804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Tw Cen MT"/>
              </a:rPr>
              <a:t>Adsorptive Gastrocknungsverfahren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52440" indent="-352440">
              <a:spcBef>
                <a:spcPts val="774"/>
              </a:spcBef>
              <a:buClr>
                <a:srgbClr val="dd804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Tw Cen MT"/>
              </a:rPr>
              <a:t>Kondensationsverfahren            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74640" y="252360"/>
            <a:ext cx="898992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Gastrocknung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674640" y="1763280"/>
            <a:ext cx="8989920" cy="4956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52440" indent="-352440">
              <a:spcBef>
                <a:spcPts val="774"/>
              </a:spcBef>
              <a:buClr>
                <a:srgbClr val="dd8047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Tw Cen MT"/>
              </a:rPr>
              <a:t>Adsorptive Gastrocknungsverfahren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52440" indent="-352440">
              <a:spcBef>
                <a:spcPts val="774"/>
              </a:spcBef>
              <a:buClr>
                <a:srgbClr val="dd8047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52440" indent="-352440">
              <a:spcBef>
                <a:spcPts val="774"/>
              </a:spcBef>
              <a:buClr>
                <a:srgbClr val="dd804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Tw Cen MT"/>
              </a:rPr>
              <a:t>Wasserdampf lagert sich an bestimmten Stoffen ab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52440" indent="-35244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Tw Cen MT"/>
              </a:rPr>
              <a:t>    </a:t>
            </a:r>
            <a:r>
              <a:rPr b="0" i="1" lang="de-DE" sz="3200" spc="-1" strike="noStrike">
                <a:solidFill>
                  <a:srgbClr val="000000"/>
                </a:solidFill>
                <a:latin typeface="Tw Cen MT"/>
              </a:rPr>
              <a:t>(z.B. an Kieselgelen oder Aluminiumoxide)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52440" indent="-35244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52440" indent="-35244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Tw Cen MT"/>
              </a:rPr>
              <a:t>    </a:t>
            </a:r>
            <a:r>
              <a:rPr b="0" i="1" lang="de-DE" sz="3200" spc="-1" strike="noStrike">
                <a:solidFill>
                  <a:srgbClr val="000000"/>
                </a:solidFill>
                <a:latin typeface="Tw Cen MT"/>
              </a:rPr>
              <a:t>In Form von Granulat in einem Festbettadsorber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52440" indent="-352440">
              <a:spcBef>
                <a:spcPts val="774"/>
              </a:spcBef>
              <a:buClr>
                <a:srgbClr val="dd8047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feil nach unten 5"/>
          <p:cNvSpPr/>
          <p:nvPr/>
        </p:nvSpPr>
        <p:spPr>
          <a:xfrm>
            <a:off x="3611520" y="4137120"/>
            <a:ext cx="857160" cy="571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74640" y="252360"/>
            <a:ext cx="898992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Gastrocknung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674640" y="1763280"/>
            <a:ext cx="8989920" cy="4956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52440" indent="-352440">
              <a:spcBef>
                <a:spcPts val="774"/>
              </a:spcBef>
              <a:buClr>
                <a:srgbClr val="dd8047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Tw Cen MT"/>
              </a:rPr>
              <a:t>Kondensationsverfahren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52440" indent="-352440">
              <a:spcBef>
                <a:spcPts val="774"/>
              </a:spcBef>
              <a:buClr>
                <a:srgbClr val="dd8047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52440" indent="-352440">
              <a:spcBef>
                <a:spcPts val="774"/>
              </a:spcBef>
              <a:buClr>
                <a:srgbClr val="dd804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Tw Cen MT"/>
              </a:rPr>
              <a:t>Biogas wird gekühlt, wodurch das darin enthaltene Wasser auskondensier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52440" indent="-352440">
              <a:spcBef>
                <a:spcPts val="774"/>
              </a:spcBef>
              <a:buClr>
                <a:srgbClr val="dd804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52440" indent="-352440">
              <a:spcBef>
                <a:spcPts val="774"/>
              </a:spcBef>
              <a:buClr>
                <a:srgbClr val="dd804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Tw Cen MT"/>
              </a:rPr>
              <a:t>Das Wasser wird dem Prozess entnommen und abgeführ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74640" y="252360"/>
            <a:ext cx="898992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Funktion einer Biogasanlage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674640" y="1763280"/>
            <a:ext cx="8989920" cy="4956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622440" indent="-514440">
              <a:spcBef>
                <a:spcPts val="774"/>
              </a:spcBef>
              <a:buClr>
                <a:srgbClr val="dd8047"/>
              </a:buClr>
              <a:buFont typeface="Tw Cen MT"/>
              <a:buAutoNum type="arabicPeriod" startAt="7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de-DE" sz="3200" spc="-1" strike="noStrike" u="sng">
                <a:solidFill>
                  <a:srgbClr val="000000"/>
                </a:solidFill>
                <a:uFillTx/>
                <a:latin typeface="Tw Cen MT"/>
              </a:rPr>
              <a:t>Folienspeicher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622440" indent="-51444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de-DE" sz="2600" spc="-1" strike="noStrike">
                <a:solidFill>
                  <a:srgbClr val="000000"/>
                </a:solidFill>
                <a:latin typeface="Tw Cen MT"/>
              </a:rPr>
              <a:t>- Gasspeicherung bei    &lt;0,1 bar Druck 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622440" indent="-51444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Tw Cen MT"/>
              </a:rPr>
              <a:t>Anforderungen</a:t>
            </a:r>
            <a:r>
              <a:rPr b="0" lang="de-DE" sz="2600" spc="-1" strike="noStrike">
                <a:solidFill>
                  <a:srgbClr val="000000"/>
                </a:solidFill>
                <a:latin typeface="Tw Cen MT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622440" indent="-514440">
              <a:spcBef>
                <a:spcPts val="774"/>
              </a:spcBef>
              <a:buClr>
                <a:srgbClr val="ffcc99"/>
              </a:buClr>
              <a:buFont typeface="Wingdings" charset="2"/>
              <a:buChar char="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w Cen MT"/>
              </a:rPr>
              <a:t>Müssen gasdicht, druckfest, UV,-temperatur-und Witterungsbeständig sei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22440" indent="-51444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Tw Cen MT"/>
              </a:rPr>
              <a:t>Anforderungen an Folien aus Kunststoffen</a:t>
            </a:r>
            <a:r>
              <a:rPr b="0" lang="de-DE" sz="2600" spc="-1" strike="noStrike">
                <a:solidFill>
                  <a:srgbClr val="000000"/>
                </a:solidFill>
                <a:latin typeface="Tw Cen MT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622440" indent="-514440">
              <a:spcBef>
                <a:spcPts val="774"/>
              </a:spcBef>
              <a:buClr>
                <a:srgbClr val="ffcc99"/>
              </a:buClr>
              <a:buFont typeface="Wingdings" charset="2"/>
              <a:buChar char="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w Cen MT"/>
              </a:rPr>
              <a:t>Reißfest :        min. 500N/ 5 cm² oder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22440" indent="-514440">
              <a:spcBef>
                <a:spcPts val="774"/>
              </a:spcBef>
              <a:buClr>
                <a:srgbClr val="ffcc99"/>
              </a:buClr>
              <a:buFont typeface="Wingdings" charset="2"/>
              <a:buChar char="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w Cen MT"/>
              </a:rPr>
              <a:t>Zugfestigkeit : min. 250N/ 5 cm²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22440" indent="-514440">
              <a:spcBef>
                <a:spcPts val="774"/>
              </a:spcBef>
              <a:buClr>
                <a:srgbClr val="ffcc99"/>
              </a:buClr>
              <a:buFont typeface="Wingdings" charset="2"/>
              <a:buChar char="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w Cen MT"/>
              </a:rPr>
              <a:t>Temperaturbeständig von -30 bis +50°C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22440" indent="-51444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622440" indent="-51444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622440" indent="-51444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Einsatz von Biogasanlagen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-360" y="1768320"/>
            <a:ext cx="95742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30200" indent="-324000">
              <a:spcBef>
                <a:spcPts val="774"/>
              </a:spcBef>
              <a:buClr>
                <a:srgbClr val="ffcc99"/>
              </a:buClr>
              <a:buFont typeface="Courier New"/>
              <a:buChar char="o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1" i="1" lang="de-DE" sz="3200" spc="-1" strike="noStrike" u="sng">
                <a:solidFill>
                  <a:srgbClr val="000000"/>
                </a:solidFill>
                <a:uFillTx/>
                <a:latin typeface="Tw Cen MT"/>
              </a:rPr>
              <a:t>Vorkommen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430200" indent="-324000">
              <a:spcBef>
                <a:spcPts val="774"/>
              </a:spcBef>
              <a:buClr>
                <a:srgbClr val="ffcc99"/>
              </a:buClr>
              <a:buSzPct val="45000"/>
              <a:buFont typeface="Wingdings" charset="2"/>
              <a:buChar char="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Tw Cen MT"/>
              </a:rPr>
              <a:t>Landwirtschaf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430200" indent="-324000">
              <a:spcBef>
                <a:spcPts val="774"/>
              </a:spcBef>
              <a:buClr>
                <a:srgbClr val="ffcc99"/>
              </a:buClr>
              <a:buSzPct val="45000"/>
              <a:buFont typeface="Wingdings" charset="2"/>
              <a:buChar char="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Tw Cen MT"/>
              </a:rPr>
              <a:t>Ernährungs-und Agrar-Industrie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430200" indent="-324000">
              <a:spcBef>
                <a:spcPts val="774"/>
              </a:spcBef>
              <a:buClr>
                <a:srgbClr val="ffcc99"/>
              </a:buClr>
              <a:buSzPct val="45000"/>
              <a:buFont typeface="Wingdings" charset="2"/>
              <a:buChar char="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Tw Cen MT"/>
              </a:rPr>
              <a:t>Kommunalen Entsorgung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430200" indent="-324000">
              <a:spcBef>
                <a:spcPts val="774"/>
              </a:spcBef>
              <a:buClr>
                <a:srgbClr val="ffcc99"/>
              </a:buClr>
              <a:buFont typeface="Courier New"/>
              <a:buChar char="o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1" i="1" lang="de-DE" sz="3200" spc="-1" strike="noStrike" u="sng">
                <a:solidFill>
                  <a:srgbClr val="000000"/>
                </a:solidFill>
                <a:uFillTx/>
                <a:latin typeface="Tw Cen MT"/>
              </a:rPr>
              <a:t>Zi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430200" indent="-324000">
              <a:spcBef>
                <a:spcPts val="774"/>
              </a:spcBef>
              <a:buClr>
                <a:srgbClr val="ffcc99"/>
              </a:buClr>
              <a:buSzPct val="45000"/>
              <a:buFont typeface="Wingdings" charset="2"/>
              <a:buChar char="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Tw Cen MT"/>
              </a:rPr>
              <a:t>Aus Vergärung von organischen Stoffen </a:t>
            </a:r>
            <a:r>
              <a:rPr b="1" i="1" lang="de-DE" sz="3200" spc="-1" strike="noStrike" u="sng">
                <a:solidFill>
                  <a:srgbClr val="c00000"/>
                </a:solidFill>
                <a:uFillTx/>
                <a:latin typeface="Tw Cen MT"/>
              </a:rPr>
              <a:t>Energie</a:t>
            </a:r>
            <a:r>
              <a:rPr b="0" i="1" lang="de-DE" sz="3200" spc="-1" strike="noStrike">
                <a:solidFill>
                  <a:srgbClr val="000000"/>
                </a:solidFill>
                <a:latin typeface="Tw Cen MT"/>
              </a:rPr>
              <a:t> in Form von Strom und Wärme zu gewinnen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430200" indent="-324000">
              <a:spcBef>
                <a:spcPts val="774"/>
              </a:spcBef>
              <a:buClr>
                <a:srgbClr val="ffcc99"/>
              </a:buClr>
              <a:buSzPct val="45000"/>
              <a:buFont typeface="Wingdings" charset="2"/>
              <a:buChar char="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430200" indent="-324000">
              <a:spcBef>
                <a:spcPts val="774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74640" y="252360"/>
            <a:ext cx="898992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Funktion einer Biogasanlage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674640" y="1763280"/>
            <a:ext cx="8989920" cy="4956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620640" indent="-514440">
              <a:spcBef>
                <a:spcPts val="774"/>
              </a:spcBef>
              <a:buClr>
                <a:srgbClr val="ffcc99"/>
              </a:buClr>
              <a:buFont typeface="Tw Cen MT"/>
              <a:buAutoNum type="arabicPeriod" startAt="7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1" lang="de-DE" sz="3200" spc="-1" strike="noStrike" u="sng">
                <a:solidFill>
                  <a:srgbClr val="000000"/>
                </a:solidFill>
                <a:uFillTx/>
                <a:latin typeface="Tw Cen MT"/>
              </a:rPr>
              <a:t>Folienspeicher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44" name="Picture 3" descr=""/>
          <p:cNvPicPr/>
          <p:nvPr/>
        </p:nvPicPr>
        <p:blipFill>
          <a:blip r:embed="rId1"/>
          <a:stretch/>
        </p:blipFill>
        <p:spPr>
          <a:xfrm>
            <a:off x="1440000" y="2519280"/>
            <a:ext cx="738000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74640" y="252360"/>
            <a:ext cx="898992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Funktion einer Biogasanlage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674640" y="1763280"/>
            <a:ext cx="8989920" cy="4956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620640" indent="-514440">
              <a:spcBef>
                <a:spcPts val="774"/>
              </a:spcBef>
              <a:buClr>
                <a:srgbClr val="ffcc99"/>
              </a:buClr>
              <a:buFont typeface="Tw Cen MT"/>
              <a:buAutoNum type="arabicPeriod" startAt="7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1" lang="de-DE" sz="3200" spc="-1" strike="noStrike" u="sng">
                <a:solidFill>
                  <a:srgbClr val="000000"/>
                </a:solidFill>
                <a:uFillTx/>
                <a:latin typeface="Tw Cen MT"/>
              </a:rPr>
              <a:t>Folienspeicher</a:t>
            </a:r>
            <a:r>
              <a:rPr b="0" lang="de-DE" sz="3200" spc="-1" strike="noStrike">
                <a:solidFill>
                  <a:srgbClr val="000000"/>
                </a:solidFill>
                <a:latin typeface="Tw Cen MT"/>
              </a:rPr>
              <a:t> im Fermenter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47" name="Picture 3" descr=""/>
          <p:cNvPicPr/>
          <p:nvPr/>
        </p:nvPicPr>
        <p:blipFill>
          <a:blip r:embed="rId1"/>
          <a:stretch/>
        </p:blipFill>
        <p:spPr>
          <a:xfrm>
            <a:off x="1039680" y="2779560"/>
            <a:ext cx="8115480" cy="38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74640" y="252360"/>
            <a:ext cx="898992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Funktion einer Biogasanlage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674640" y="1763280"/>
            <a:ext cx="8989920" cy="4956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620640" indent="-514440">
              <a:spcBef>
                <a:spcPts val="774"/>
              </a:spcBef>
              <a:buClr>
                <a:srgbClr val="ffcc99"/>
              </a:buClr>
              <a:buFont typeface="Tw Cen MT"/>
              <a:buAutoNum type="arabicPeriod" startAt="8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1" lang="de-DE" sz="3200" spc="-1" strike="noStrike" u="sng">
                <a:solidFill>
                  <a:srgbClr val="000000"/>
                </a:solidFill>
                <a:uFillTx/>
                <a:latin typeface="Tw Cen MT"/>
              </a:rPr>
              <a:t>Blockheizkraftwerk </a:t>
            </a:r>
            <a:r>
              <a:rPr b="0" lang="de-DE" sz="3200" spc="-1" strike="noStrike">
                <a:solidFill>
                  <a:srgbClr val="000000"/>
                </a:solidFill>
                <a:latin typeface="Tw Cen MT"/>
              </a:rPr>
              <a:t>(BHKW)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620640" indent="-514440">
              <a:spcBef>
                <a:spcPts val="774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50" name="Picture 3" descr=""/>
          <p:cNvPicPr/>
          <p:nvPr/>
        </p:nvPicPr>
        <p:blipFill>
          <a:blip r:embed="rId1"/>
          <a:stretch/>
        </p:blipFill>
        <p:spPr>
          <a:xfrm>
            <a:off x="2176560" y="2340000"/>
            <a:ext cx="5924520" cy="487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74640" y="252360"/>
            <a:ext cx="898992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Funktion einer Biogasanlage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674640" y="1763280"/>
            <a:ext cx="8989920" cy="4956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3200" spc="-1" strike="noStrike" u="sng">
                <a:solidFill>
                  <a:srgbClr val="000000"/>
                </a:solidFill>
                <a:uFillTx/>
                <a:latin typeface="Tw Cen MT"/>
              </a:rPr>
              <a:t>BHKW: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buClr>
                <a:srgbClr val="ffcc99"/>
              </a:buClr>
              <a:buFont typeface="Courier New"/>
              <a:buChar char="o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w Cen MT"/>
              </a:rPr>
              <a:t>Optimale Energieausbeute nur bei genügender        Sauerstoffzugab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w Cen MT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w Cen MT"/>
              </a:rPr>
              <a:t>Ansonsten keine vollständige Methanverbrennung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w Cen MT"/>
              </a:rPr>
              <a:t>    </a:t>
            </a:r>
            <a:r>
              <a:rPr b="0" lang="de-DE" sz="2400" spc="-1" strike="noStrike">
                <a:solidFill>
                  <a:srgbClr val="000000"/>
                </a:solidFill>
                <a:latin typeface="Tw Cen MT"/>
              </a:rPr>
              <a:t>Sauerstoff   +  Methan        Kohlenstoffdioxid+Wasser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w Cen MT"/>
              </a:rPr>
              <a:t>    </a:t>
            </a:r>
            <a:r>
              <a:rPr b="0" lang="de-DE" sz="2400" spc="-1" strike="noStrike">
                <a:solidFill>
                  <a:srgbClr val="000000"/>
                </a:solidFill>
                <a:latin typeface="Tw Cen MT"/>
              </a:rPr>
              <a:t>2</a:t>
            </a:r>
            <a:r>
              <a:rPr b="0" lang="de-DE" sz="2400" spc="-1" strike="noStrike">
                <a:solidFill>
                  <a:srgbClr val="c00000"/>
                </a:solidFill>
                <a:latin typeface="Tw Cen MT"/>
              </a:rPr>
              <a:t>O</a:t>
            </a:r>
            <a:r>
              <a:rPr b="0" lang="de-DE" sz="2400" spc="-1" strike="noStrike" baseline="-33000">
                <a:solidFill>
                  <a:srgbClr val="000000"/>
                </a:solidFill>
                <a:latin typeface="Tw Cen MT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Tw Cen MT"/>
              </a:rPr>
              <a:t>         +    </a:t>
            </a:r>
            <a:r>
              <a:rPr b="0" lang="de-DE" sz="2400" spc="-1" strike="noStrike">
                <a:solidFill>
                  <a:srgbClr val="c00000"/>
                </a:solidFill>
                <a:latin typeface="Tw Cen MT"/>
              </a:rPr>
              <a:t>CH</a:t>
            </a:r>
            <a:r>
              <a:rPr b="0" lang="de-DE" sz="2400" spc="-1" strike="noStrike" baseline="-33000">
                <a:solidFill>
                  <a:srgbClr val="000000"/>
                </a:solidFill>
                <a:latin typeface="Tw Cen MT"/>
              </a:rPr>
              <a:t>4                                       </a:t>
            </a:r>
            <a:r>
              <a:rPr b="0" lang="de-DE" sz="2400" spc="-1" strike="noStrike">
                <a:solidFill>
                  <a:srgbClr val="c00000"/>
                </a:solidFill>
                <a:latin typeface="Tw Cen MT"/>
              </a:rPr>
              <a:t>CO</a:t>
            </a:r>
            <a:r>
              <a:rPr b="0" lang="de-DE" sz="2400" spc="-1" strike="noStrike" baseline="-33000">
                <a:solidFill>
                  <a:srgbClr val="000000"/>
                </a:solidFill>
                <a:latin typeface="Tw Cen MT"/>
              </a:rPr>
              <a:t>2                  </a:t>
            </a:r>
            <a:r>
              <a:rPr b="0" lang="de-DE" sz="2400" spc="-1" strike="noStrike">
                <a:solidFill>
                  <a:srgbClr val="000000"/>
                </a:solidFill>
                <a:latin typeface="Tw Cen MT"/>
              </a:rPr>
              <a:t>+  2</a:t>
            </a:r>
            <a:r>
              <a:rPr b="0" lang="de-DE" sz="2400" spc="-1" strike="noStrike">
                <a:solidFill>
                  <a:srgbClr val="c00000"/>
                </a:solidFill>
                <a:latin typeface="Tw Cen MT"/>
              </a:rPr>
              <a:t>H</a:t>
            </a:r>
            <a:r>
              <a:rPr b="0" lang="de-DE" sz="2400" spc="-1" strike="noStrike" baseline="-33000">
                <a:solidFill>
                  <a:srgbClr val="000000"/>
                </a:solidFill>
                <a:latin typeface="Tw Cen MT"/>
              </a:rPr>
              <a:t>2</a:t>
            </a:r>
            <a:r>
              <a:rPr b="0" lang="de-DE" sz="2400" spc="-1" strike="noStrike">
                <a:solidFill>
                  <a:srgbClr val="c00000"/>
                </a:solidFill>
                <a:latin typeface="Tw Cen MT"/>
              </a:rPr>
              <a:t>O</a:t>
            </a:r>
            <a:r>
              <a:rPr b="0" lang="de-DE" sz="2400" spc="-1" strike="noStrike">
                <a:solidFill>
                  <a:srgbClr val="000000"/>
                </a:solidFill>
                <a:latin typeface="Tw Cen MT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453" name="AutoShape 3"/>
          <p:cNvCxnSpPr>
            <a:stCxn id="452" idx="3"/>
            <a:endCxn id="452" idx="3"/>
          </p:cNvCxnSpPr>
          <p:nvPr/>
        </p:nvCxnSpPr>
        <p:spPr>
          <a:xfrm>
            <a:off x="9575280" y="4218120"/>
            <a:ext cx="3960" cy="2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454" name="AutoShape 4"/>
          <p:cNvCxnSpPr>
            <a:stCxn id="452" idx="3"/>
            <a:endCxn id="452" idx="3"/>
          </p:cNvCxnSpPr>
          <p:nvPr/>
        </p:nvCxnSpPr>
        <p:spPr>
          <a:xfrm>
            <a:off x="9575280" y="4218120"/>
            <a:ext cx="3960" cy="2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</a:ln>
        </p:spPr>
      </p:cxnSp>
      <p:sp>
        <p:nvSpPr>
          <p:cNvPr id="455" name="Pfeil nach rechts 10"/>
          <p:cNvSpPr/>
          <p:nvPr/>
        </p:nvSpPr>
        <p:spPr>
          <a:xfrm>
            <a:off x="4111560" y="4780080"/>
            <a:ext cx="428760" cy="142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558bb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feil nach rechts 12"/>
          <p:cNvSpPr/>
          <p:nvPr/>
        </p:nvSpPr>
        <p:spPr>
          <a:xfrm>
            <a:off x="4111560" y="5208480"/>
            <a:ext cx="428760" cy="142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558bb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Nach rechts gekrümmter Pfeil 8"/>
          <p:cNvSpPr/>
          <p:nvPr/>
        </p:nvSpPr>
        <p:spPr>
          <a:xfrm>
            <a:off x="611280" y="2851200"/>
            <a:ext cx="428400" cy="1143000"/>
          </a:xfrm>
          <a:custGeom>
            <a:avLst/>
            <a:gdLst>
              <a:gd name="textAreaLeft" fmla="*/ 57240 w 428400"/>
              <a:gd name="textAreaRight" fmla="*/ 371160 w 428400"/>
              <a:gd name="textAreaTop" fmla="*/ 245520 h 1143000"/>
              <a:gd name="textAreaBottom" fmla="*/ 84384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281" stAng="-5400000" swAng="-5400000"/>
                <a:lnTo>
                  <a:pt x="0" y="11307"/>
                </a:lnTo>
                <a:arcTo wR="21600" hR="9281" stAng="10800000" swAng="-3539862"/>
                <a:lnTo>
                  <a:pt x="16200" y="21305"/>
                </a:lnTo>
                <a:lnTo>
                  <a:pt x="21600" y="19575"/>
                </a:lnTo>
                <a:lnTo>
                  <a:pt x="16200" y="17255"/>
                </a:lnTo>
                <a:lnTo>
                  <a:pt x="16200" y="18267"/>
                </a:lnTo>
                <a:arcTo wR="21600" hR="9281" stAng="7260138" swAng="3377789"/>
                <a:lnTo>
                  <a:pt x="129" y="10294"/>
                </a:lnTo>
                <a:arcTo wR="21600" hR="9281" stAng="-10637927" swAng="5237927"/>
                <a:close/>
              </a:path>
              <a:path fill="darkenLess" w="21600" h="21600">
                <a:moveTo>
                  <a:pt x="21600" y="0"/>
                </a:moveTo>
                <a:arcTo wR="21600" hR="9281" stAng="-5400000" swAng="-5400000"/>
                <a:lnTo>
                  <a:pt x="0" y="9281"/>
                </a:lnTo>
                <a:arcTo wR="21600" hR="9281" stAng="10800000" swAng="-162073"/>
                <a:lnTo>
                  <a:pt x="129" y="10294"/>
                </a:lnTo>
                <a:arcTo wR="21600" hR="9281" stAng="-10637927" swAng="5237927"/>
                <a:close/>
              </a:path>
            </a:pathLst>
          </a:custGeom>
          <a:solidFill>
            <a:srgbClr val="94b6d2"/>
          </a:solidFill>
          <a:ln w="1908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74640" y="252360"/>
            <a:ext cx="898992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Funktion einer Biogasanlage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674640" y="1763280"/>
            <a:ext cx="8989920" cy="4956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7000"/>
          </a:bodyPr>
          <a:p>
            <a:pPr marL="418680" indent="-31248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3200" spc="-1" strike="noStrike" u="sng">
                <a:solidFill>
                  <a:srgbClr val="000000"/>
                </a:solidFill>
                <a:uFillTx/>
                <a:latin typeface="Tw Cen MT"/>
              </a:rPr>
              <a:t>BHKW: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418680" indent="-312480">
              <a:spcBef>
                <a:spcPts val="774"/>
              </a:spcBef>
              <a:buClr>
                <a:srgbClr val="ffcc99"/>
              </a:buClr>
              <a:buFont typeface="Courier New"/>
              <a:buChar char="o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w Cen MT"/>
              </a:rPr>
              <a:t>Bei ungenügender Sauerstoffzugabe entstehen unerwünschte Nebenprodukte wie z.B Kohlenstoffmonoxid (</a:t>
            </a:r>
            <a:r>
              <a:rPr b="0" lang="de-DE" sz="2400" spc="-1" strike="noStrike">
                <a:solidFill>
                  <a:srgbClr val="c00000"/>
                </a:solidFill>
                <a:latin typeface="Tw Cen MT"/>
              </a:rPr>
              <a:t>CO</a:t>
            </a:r>
            <a:r>
              <a:rPr b="0" lang="de-DE" sz="2400" spc="-1" strike="noStrike">
                <a:solidFill>
                  <a:srgbClr val="000000"/>
                </a:solidFill>
                <a:latin typeface="Tw Cen MT"/>
              </a:rPr>
              <a:t>)  oder                                                     Kohlenstoff (Ruß)  ( </a:t>
            </a:r>
            <a:r>
              <a:rPr b="0" lang="de-DE" sz="2400" spc="-1" strike="noStrike">
                <a:solidFill>
                  <a:srgbClr val="c00000"/>
                </a:solidFill>
                <a:latin typeface="Tw Cen MT"/>
              </a:rPr>
              <a:t>C</a:t>
            </a:r>
            <a:r>
              <a:rPr b="0" lang="de-DE" sz="2400" spc="-1" strike="noStrike">
                <a:solidFill>
                  <a:srgbClr val="000000"/>
                </a:solidFill>
                <a:latin typeface="Tw Cen MT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18680" indent="-31248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18680" indent="-31248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w Cen MT"/>
              </a:rPr>
              <a:t>Methan + Sauerstoff          Kohlenstoffmonoxid + Wasser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18680" indent="-31248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w Cen MT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w Cen MT"/>
              </a:rPr>
              <a:t>2</a:t>
            </a:r>
            <a:r>
              <a:rPr b="0" lang="de-DE" sz="2400" spc="-1" strike="noStrike">
                <a:solidFill>
                  <a:srgbClr val="c00000"/>
                </a:solidFill>
                <a:latin typeface="Tw Cen MT"/>
              </a:rPr>
              <a:t>CH</a:t>
            </a:r>
            <a:r>
              <a:rPr b="0" lang="de-DE" sz="2400" spc="-1" strike="noStrike" baseline="-33000">
                <a:solidFill>
                  <a:srgbClr val="000000"/>
                </a:solidFill>
                <a:latin typeface="Tw Cen MT"/>
              </a:rPr>
              <a:t>4</a:t>
            </a:r>
            <a:r>
              <a:rPr b="0" lang="de-DE" sz="2400" spc="-1" strike="noStrike">
                <a:solidFill>
                  <a:srgbClr val="000000"/>
                </a:solidFill>
                <a:latin typeface="Tw Cen MT"/>
              </a:rPr>
              <a:t>  +     3</a:t>
            </a:r>
            <a:r>
              <a:rPr b="0" lang="de-DE" sz="2400" spc="-1" strike="noStrike">
                <a:solidFill>
                  <a:srgbClr val="c00000"/>
                </a:solidFill>
                <a:latin typeface="Tw Cen MT"/>
              </a:rPr>
              <a:t>O</a:t>
            </a:r>
            <a:r>
              <a:rPr b="0" lang="de-DE" sz="2400" spc="-1" strike="noStrike" baseline="-33000">
                <a:solidFill>
                  <a:srgbClr val="000000"/>
                </a:solidFill>
                <a:latin typeface="Tw Cen MT"/>
              </a:rPr>
              <a:t>2                                   </a:t>
            </a:r>
            <a:r>
              <a:rPr b="0" lang="de-DE" sz="2400" spc="-1" strike="noStrike">
                <a:solidFill>
                  <a:srgbClr val="000000"/>
                </a:solidFill>
                <a:latin typeface="Tw Cen MT"/>
              </a:rPr>
              <a:t>2</a:t>
            </a:r>
            <a:r>
              <a:rPr b="0" lang="de-DE" sz="2400" spc="-1" strike="noStrike">
                <a:solidFill>
                  <a:srgbClr val="c00000"/>
                </a:solidFill>
                <a:latin typeface="Tw Cen MT"/>
              </a:rPr>
              <a:t>CO </a:t>
            </a:r>
            <a:r>
              <a:rPr b="0" lang="de-DE" sz="2400" spc="-1" strike="noStrike">
                <a:solidFill>
                  <a:srgbClr val="000000"/>
                </a:solidFill>
                <a:latin typeface="Tw Cen MT"/>
              </a:rPr>
              <a:t>            +   4</a:t>
            </a:r>
            <a:r>
              <a:rPr b="0" lang="de-DE" sz="2400" spc="-1" strike="noStrike">
                <a:solidFill>
                  <a:srgbClr val="c00000"/>
                </a:solidFill>
                <a:latin typeface="Tw Cen MT"/>
              </a:rPr>
              <a:t>H</a:t>
            </a:r>
            <a:r>
              <a:rPr b="0" lang="de-DE" sz="2400" spc="-1" strike="noStrike" baseline="-33000">
                <a:solidFill>
                  <a:srgbClr val="000000"/>
                </a:solidFill>
                <a:latin typeface="Tw Cen MT"/>
              </a:rPr>
              <a:t>2</a:t>
            </a:r>
            <a:r>
              <a:rPr b="0" lang="de-DE" sz="2400" spc="-1" strike="noStrike">
                <a:solidFill>
                  <a:srgbClr val="c00000"/>
                </a:solidFill>
                <a:latin typeface="Tw Cen MT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18680" indent="-312480">
              <a:spcBef>
                <a:spcPts val="774"/>
              </a:spcBef>
              <a:buClr>
                <a:srgbClr val="ffcc99"/>
              </a:buClr>
              <a:buFont typeface="Courier New"/>
              <a:buChar char="o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w Cen MT"/>
              </a:rPr>
              <a:t>oder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18680" indent="-31248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w Cen MT"/>
              </a:rPr>
              <a:t>Methan + Sauerstoff           Kohlenstoff + Wasser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18680" indent="-31248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w Cen MT"/>
              </a:rPr>
              <a:t>   </a:t>
            </a:r>
            <a:r>
              <a:rPr b="0" lang="de-DE" sz="2400" spc="-1" strike="noStrike">
                <a:solidFill>
                  <a:srgbClr val="c00000"/>
                </a:solidFill>
                <a:latin typeface="Tw Cen MT"/>
              </a:rPr>
              <a:t>CH</a:t>
            </a:r>
            <a:r>
              <a:rPr b="0" lang="de-DE" sz="2400" spc="-1" strike="noStrike" baseline="-33000">
                <a:solidFill>
                  <a:srgbClr val="000000"/>
                </a:solidFill>
                <a:latin typeface="Tw Cen MT"/>
              </a:rPr>
              <a:t>4       </a:t>
            </a:r>
            <a:r>
              <a:rPr b="0" lang="de-DE" sz="2400" spc="-1" strike="noStrike">
                <a:solidFill>
                  <a:srgbClr val="000000"/>
                </a:solidFill>
                <a:latin typeface="Tw Cen MT"/>
              </a:rPr>
              <a:t>+    </a:t>
            </a:r>
            <a:r>
              <a:rPr b="0" lang="de-DE" sz="2400" spc="-1" strike="noStrike">
                <a:solidFill>
                  <a:srgbClr val="c00000"/>
                </a:solidFill>
                <a:latin typeface="Tw Cen MT"/>
              </a:rPr>
              <a:t>O</a:t>
            </a:r>
            <a:r>
              <a:rPr b="0" lang="de-DE" sz="2400" spc="-1" strike="noStrike" baseline="-33000">
                <a:solidFill>
                  <a:srgbClr val="000000"/>
                </a:solidFill>
                <a:latin typeface="Tw Cen MT"/>
              </a:rPr>
              <a:t>2                                     </a:t>
            </a:r>
            <a:r>
              <a:rPr b="0" lang="de-DE" sz="2400" spc="-1" strike="noStrike">
                <a:solidFill>
                  <a:srgbClr val="c00000"/>
                </a:solidFill>
                <a:latin typeface="Tw Cen MT"/>
              </a:rPr>
              <a:t>C </a:t>
            </a:r>
            <a:r>
              <a:rPr b="0" lang="de-DE" sz="2400" spc="-1" strike="noStrike">
                <a:solidFill>
                  <a:srgbClr val="000000"/>
                </a:solidFill>
                <a:latin typeface="Tw Cen MT"/>
              </a:rPr>
              <a:t>       +  2</a:t>
            </a:r>
            <a:r>
              <a:rPr b="0" lang="de-DE" sz="2400" spc="-1" strike="noStrike">
                <a:solidFill>
                  <a:srgbClr val="c00000"/>
                </a:solidFill>
                <a:latin typeface="Tw Cen MT"/>
              </a:rPr>
              <a:t>H</a:t>
            </a:r>
            <a:r>
              <a:rPr b="0" lang="de-DE" sz="2400" spc="-1" strike="noStrike" baseline="-33000">
                <a:solidFill>
                  <a:srgbClr val="000000"/>
                </a:solidFill>
                <a:latin typeface="Tw Cen MT"/>
              </a:rPr>
              <a:t>2</a:t>
            </a:r>
            <a:r>
              <a:rPr b="0" lang="de-DE" sz="2400" spc="-1" strike="noStrike">
                <a:solidFill>
                  <a:srgbClr val="c00000"/>
                </a:solidFill>
                <a:latin typeface="Tw Cen MT"/>
              </a:rPr>
              <a:t>O</a:t>
            </a:r>
            <a:r>
              <a:rPr b="0" lang="de-DE" sz="2400" spc="-1" strike="noStrike" baseline="-33000">
                <a:solidFill>
                  <a:srgbClr val="c00000"/>
                </a:solidFill>
                <a:latin typeface="Tw Cen MT"/>
              </a:rPr>
              <a:t> </a:t>
            </a:r>
            <a:r>
              <a:rPr b="0" lang="de-DE" sz="2400" spc="-1" strike="noStrike" baseline="-33000">
                <a:solidFill>
                  <a:srgbClr val="000000"/>
                </a:solidFill>
                <a:latin typeface="Tw Cen MT"/>
              </a:rPr>
              <a:t>                                          </a:t>
            </a:r>
            <a:r>
              <a:rPr b="0" lang="de-DE" sz="2400" spc="-1" strike="noStrike">
                <a:solidFill>
                  <a:srgbClr val="000000"/>
                </a:solidFill>
                <a:latin typeface="Tw Cen MT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0" name="Pfeil nach rechts 7"/>
          <p:cNvSpPr/>
          <p:nvPr/>
        </p:nvSpPr>
        <p:spPr>
          <a:xfrm>
            <a:off x="3468600" y="4208400"/>
            <a:ext cx="571680" cy="142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558bb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feil nach rechts 10"/>
          <p:cNvSpPr/>
          <p:nvPr/>
        </p:nvSpPr>
        <p:spPr>
          <a:xfrm>
            <a:off x="3468600" y="4637160"/>
            <a:ext cx="571680" cy="142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558bb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feil nach rechts 11"/>
          <p:cNvSpPr/>
          <p:nvPr/>
        </p:nvSpPr>
        <p:spPr>
          <a:xfrm>
            <a:off x="3468600" y="5637240"/>
            <a:ext cx="571680" cy="142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558bb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feil nach rechts 12"/>
          <p:cNvSpPr/>
          <p:nvPr/>
        </p:nvSpPr>
        <p:spPr>
          <a:xfrm>
            <a:off x="3468600" y="6137280"/>
            <a:ext cx="571680" cy="142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558bb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74640" y="252360"/>
            <a:ext cx="898992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Wirtschaftlichkeitsberechnung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674640" y="1763280"/>
            <a:ext cx="8989920" cy="495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w Cen MT"/>
              </a:rPr>
              <a:t>Eine Biogasanlage benötigt</a:t>
            </a:r>
            <a:r>
              <a:rPr b="0" lang="de-DE" sz="3200" spc="-1" strike="noStrike">
                <a:solidFill>
                  <a:srgbClr val="000000"/>
                </a:solidFill>
                <a:latin typeface="Tw Cen MT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buClr>
                <a:srgbClr val="dd8047"/>
              </a:buClr>
              <a:buFont typeface="Wingdings" charset="2"/>
              <a:buChar char="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w Cen MT"/>
              </a:rPr>
              <a:t>Anbaufläche (ca. 0,3-1,0 ha pro kW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buClr>
                <a:srgbClr val="dd8047"/>
              </a:buClr>
              <a:buFont typeface="Wingdings" charset="2"/>
              <a:buChar char="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w Cen MT"/>
              </a:rPr>
              <a:t>Kapital (3000 -5000 € pro kW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buClr>
                <a:srgbClr val="dd8047"/>
              </a:buClr>
              <a:buFont typeface="Wingdings" charset="2"/>
              <a:buChar char="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w Cen MT"/>
              </a:rPr>
              <a:t>Arbeitskraft (ca. 1-3 Std pro Tag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buClr>
                <a:srgbClr val="dd8047"/>
              </a:buClr>
              <a:buFont typeface="Wingdings" charset="2"/>
              <a:buChar char="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w Cen MT"/>
              </a:rPr>
              <a:t>bebaubare Hoffläche (ca. 0,5 -1 ha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74640" y="252360"/>
            <a:ext cx="898992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Wirtschaftlichkeitsberechnung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674640" y="1763280"/>
            <a:ext cx="8989920" cy="4956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lvl="1" marL="352440" indent="-352440">
              <a:spcBef>
                <a:spcPts val="774"/>
              </a:spcBef>
              <a:buClr>
                <a:srgbClr val="dd8047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w Cen MT"/>
              </a:rPr>
              <a:t>Die Wirtschaftlichkeit einer Biogasanlage wird   insbesondere bestimmt von: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352440" indent="-35244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w Cen MT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352440" indent="-352440">
              <a:spcBef>
                <a:spcPts val="774"/>
              </a:spcBef>
              <a:buClr>
                <a:srgbClr val="dd804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w Cen MT"/>
              </a:rPr>
              <a:t>EEG Gesetz für den Vorrang Erneuerbarer Energien</a:t>
            </a:r>
            <a:r>
              <a:rPr b="0" lang="de-DE" sz="2000" spc="-1" strike="noStrike">
                <a:solidFill>
                  <a:srgbClr val="000000"/>
                </a:solidFill>
                <a:latin typeface="Tw Cen MT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352440" indent="-352440">
              <a:spcBef>
                <a:spcPts val="774"/>
              </a:spcBef>
              <a:buClr>
                <a:srgbClr val="dd804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w Cen MT"/>
              </a:rPr>
              <a:t>Investitionskosten, Anlagengröß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352440" indent="-352440">
              <a:spcBef>
                <a:spcPts val="774"/>
              </a:spcBef>
              <a:buClr>
                <a:srgbClr val="dd804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w Cen MT"/>
              </a:rPr>
              <a:t>Zuschüsse, Zinssätze, Besteuerung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352440" indent="-352440">
              <a:spcBef>
                <a:spcPts val="774"/>
              </a:spcBef>
              <a:buClr>
                <a:srgbClr val="dd804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w Cen MT"/>
              </a:rPr>
              <a:t>Anlagenleistung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352440" indent="-352440">
              <a:spcBef>
                <a:spcPts val="774"/>
              </a:spcBef>
              <a:buClr>
                <a:srgbClr val="dd804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w Cen MT"/>
              </a:rPr>
              <a:t>Wärmenutzung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352440" indent="-352440">
              <a:spcBef>
                <a:spcPts val="774"/>
              </a:spcBef>
              <a:buClr>
                <a:srgbClr val="dd804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w Cen MT"/>
              </a:rPr>
              <a:t>Kosten für Biomasse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352440" indent="-35244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52440" indent="-352440">
              <a:spcBef>
                <a:spcPts val="774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74640" y="252360"/>
            <a:ext cx="898992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Wirtschaftlichkeit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674640" y="1763280"/>
            <a:ext cx="8989920" cy="4956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23040" bIns="50400" anchor="t">
            <a:normAutofit/>
          </a:bodyPr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Tw Cen MT"/>
              </a:rPr>
              <a:t>Vorteile: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w Cen MT"/>
              </a:rPr>
              <a:t>Nutzung von erneuerbaren Energie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w Cen MT"/>
              </a:rPr>
              <a:t>CO</a:t>
            </a:r>
            <a:r>
              <a:rPr b="0" lang="de-DE" sz="2600" spc="-1" strike="noStrike" baseline="-33000">
                <a:solidFill>
                  <a:srgbClr val="000000"/>
                </a:solidFill>
                <a:latin typeface="Tw Cen MT"/>
              </a:rPr>
              <a:t>2 </a:t>
            </a:r>
            <a:r>
              <a:rPr b="0" lang="de-DE" sz="2600" spc="-1" strike="noStrike">
                <a:solidFill>
                  <a:srgbClr val="000000"/>
                </a:solidFill>
                <a:latin typeface="Tw Cen MT"/>
              </a:rPr>
              <a:t>neutrale Energieerzeugung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w Cen MT"/>
              </a:rPr>
              <a:t>Einsatz des Methans als Treibstoff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74640" y="252360"/>
            <a:ext cx="898992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Wirtschaftlichkeit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674640" y="1763280"/>
            <a:ext cx="8989920" cy="4956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23040" bIns="50400" anchor="t">
            <a:normAutofit/>
          </a:bodyPr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Tw Cen MT"/>
              </a:rPr>
              <a:t>Vorteile: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w Cen MT"/>
              </a:rPr>
              <a:t>Nutzung von erneuerbaren Energie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w Cen MT"/>
              </a:rPr>
              <a:t>CO</a:t>
            </a:r>
            <a:r>
              <a:rPr b="0" lang="de-DE" sz="2600" spc="-1" strike="noStrike" baseline="-33000">
                <a:solidFill>
                  <a:srgbClr val="000000"/>
                </a:solidFill>
                <a:latin typeface="Tw Cen MT"/>
              </a:rPr>
              <a:t>2 </a:t>
            </a:r>
            <a:r>
              <a:rPr b="0" lang="de-DE" sz="2600" spc="-1" strike="noStrike">
                <a:solidFill>
                  <a:srgbClr val="000000"/>
                </a:solidFill>
                <a:latin typeface="Tw Cen MT"/>
              </a:rPr>
              <a:t>neutrale Energieerzeugung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w Cen MT"/>
              </a:rPr>
              <a:t>Einsatz des Methans als Treibstoff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Tw Cen MT"/>
              </a:rPr>
              <a:t>Nachteile: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w Cen MT"/>
              </a:rPr>
              <a:t>Hoher Investitionsaufwand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w Cen MT"/>
              </a:rPr>
              <a:t>Eventuelle Geruchsbelästigung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w Cen MT"/>
              </a:rPr>
              <a:t>Großer Flächenbedarf für die „Energiepflanzen“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w Cen MT"/>
              </a:rPr>
              <a:t>Eventuelle ökologische Probleme durch gezielten Anbau von „Energiepflanzen“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2" name="Rechteck 3"/>
          <p:cNvSpPr/>
          <p:nvPr/>
        </p:nvSpPr>
        <p:spPr>
          <a:xfrm>
            <a:off x="2775960" y="3605040"/>
            <a:ext cx="45288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Verteilung des Energiebedarfs Im Hausha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74640" y="252360"/>
            <a:ext cx="898992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Wirtschaftlichkeit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74" name="Inhaltsplatzhalter 3" descr="FNR_Biogasanlagenbestand_2010_orange_72dpi.JPG"/>
          <p:cNvPicPr/>
          <p:nvPr/>
        </p:nvPicPr>
        <p:blipFill>
          <a:blip r:embed="rId1"/>
          <a:stretch/>
        </p:blipFill>
        <p:spPr>
          <a:xfrm>
            <a:off x="682560" y="2065320"/>
            <a:ext cx="835812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74640" y="252360"/>
            <a:ext cx="898992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Aufbau einer Biogasanlage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74640" y="1763280"/>
            <a:ext cx="8989920" cy="4956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8" name="Picture 3" descr=""/>
          <p:cNvPicPr/>
          <p:nvPr/>
        </p:nvPicPr>
        <p:blipFill>
          <a:blip r:embed="rId1"/>
          <a:stretch/>
        </p:blipFill>
        <p:spPr>
          <a:xfrm>
            <a:off x="682560" y="1851120"/>
            <a:ext cx="8398080" cy="499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74640" y="252360"/>
            <a:ext cx="898992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Wirtschaftlichkeit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0" y="1763640"/>
            <a:ext cx="10080720" cy="5796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52440" indent="-35244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w Cen MT"/>
              </a:rPr>
              <a:t>Vergütung: nach EE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52440" indent="-352440">
              <a:spcBef>
                <a:spcPts val="774"/>
              </a:spcBef>
              <a:buClr>
                <a:srgbClr val="dd8047"/>
              </a:buClr>
              <a:buFont typeface="Tw Cen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000000"/>
                </a:solidFill>
                <a:uFillTx/>
                <a:latin typeface="Tw Cen MT"/>
              </a:rPr>
              <a:t>Grundvergütung nach Leistung der Anlag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52440" indent="-35244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52440" indent="-35244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w Cen MT"/>
              </a:rPr>
              <a:t>     </a:t>
            </a:r>
            <a:r>
              <a:rPr b="0" lang="de-DE" sz="2000" spc="-1" strike="noStrike">
                <a:solidFill>
                  <a:srgbClr val="000000"/>
                </a:solidFill>
                <a:latin typeface="Tw Cen MT"/>
              </a:rPr>
              <a:t>Jährliche Abnahme, um Effizienzsteigerung und Kostensenkung einer Anlage zu erzielen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52440" indent="-352440">
              <a:spcBef>
                <a:spcPts val="774"/>
              </a:spcBef>
              <a:buClr>
                <a:srgbClr val="dd8047"/>
              </a:buClr>
              <a:buFont typeface="Tw Cen MT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000000"/>
                </a:solidFill>
                <a:uFillTx/>
                <a:latin typeface="Tw Cen MT"/>
              </a:rPr>
              <a:t>NawaRo,Abfälle,Güllebonus:Verwendung besonderer Inputstoff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52440" indent="-352440">
              <a:spcBef>
                <a:spcPts val="774"/>
              </a:spcBef>
              <a:buClr>
                <a:srgbClr val="dd8047"/>
              </a:buClr>
              <a:buFont typeface="Tw Cen MT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52440" indent="-352440">
              <a:spcBef>
                <a:spcPts val="774"/>
              </a:spcBef>
              <a:buClr>
                <a:srgbClr val="dd8047"/>
              </a:buClr>
              <a:buFont typeface="Tw Cen MT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000000"/>
                </a:solidFill>
                <a:uFillTx/>
                <a:latin typeface="Tw Cen MT"/>
              </a:rPr>
              <a:t>Technologiebonus: Einsatz spezieller Verstromungstechnik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52440" indent="-35244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52440" indent="-35244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w Cen MT"/>
              </a:rPr>
              <a:t>       </a:t>
            </a:r>
            <a:r>
              <a:rPr b="0" lang="de-DE" sz="1600" spc="-1" strike="noStrike">
                <a:solidFill>
                  <a:srgbClr val="000000"/>
                </a:solidFill>
                <a:latin typeface="Tw Cen MT"/>
              </a:rPr>
              <a:t>Technologien:Gasturbine, Brennstoffzelle, Organic-Rankine-Anlage,Stirlingmotor,Dampfmotor,Kalina-Cycle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52440" indent="-352440">
              <a:spcBef>
                <a:spcPts val="774"/>
              </a:spcBef>
              <a:buClr>
                <a:srgbClr val="dd8047"/>
              </a:buClr>
              <a:buFont typeface="Tw Cen MT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000000"/>
                </a:solidFill>
                <a:uFillTx/>
                <a:latin typeface="Tw Cen MT"/>
              </a:rPr>
              <a:t>KWK-Bonus:Beim Einsatz einer Anlage zur Kraft-Wärme-Kopplung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52440" indent="-352440">
              <a:spcBef>
                <a:spcPts val="774"/>
              </a:spcBef>
              <a:buClr>
                <a:srgbClr val="dd8047"/>
              </a:buClr>
              <a:buFont typeface="Tw Cen MT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52440" indent="-35244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7" name="Plus 7"/>
          <p:cNvSpPr/>
          <p:nvPr/>
        </p:nvSpPr>
        <p:spPr>
          <a:xfrm>
            <a:off x="71280" y="3279600"/>
            <a:ext cx="468360" cy="500400"/>
          </a:xfrm>
          <a:custGeom>
            <a:avLst/>
            <a:gdLst>
              <a:gd name="textAreaLeft" fmla="*/ 61920 w 468360"/>
              <a:gd name="textAreaRight" fmla="*/ 406440 w 468360"/>
              <a:gd name="textAreaTop" fmla="*/ 195120 h 500400"/>
              <a:gd name="textAreaBottom" fmla="*/ 305280 h 500400"/>
            </a:gdLst>
            <a:ahLst/>
            <a:rect l="textAreaLeft" t="textAreaTop" r="textAreaRight" b="textAreaBottom"/>
            <a:pathLst>
              <a:path w="468312" h="500063">
                <a:moveTo>
                  <a:pt x="62075" y="194958"/>
                </a:moveTo>
                <a:lnTo>
                  <a:pt x="179083" y="194958"/>
                </a:lnTo>
                <a:lnTo>
                  <a:pt x="179083" y="66283"/>
                </a:lnTo>
                <a:lnTo>
                  <a:pt x="289229" y="66283"/>
                </a:lnTo>
                <a:lnTo>
                  <a:pt x="289229" y="194958"/>
                </a:lnTo>
                <a:lnTo>
                  <a:pt x="406237" y="194958"/>
                </a:lnTo>
                <a:lnTo>
                  <a:pt x="406237" y="305105"/>
                </a:lnTo>
                <a:lnTo>
                  <a:pt x="289229" y="305105"/>
                </a:lnTo>
                <a:lnTo>
                  <a:pt x="289229" y="433780"/>
                </a:lnTo>
                <a:lnTo>
                  <a:pt x="179083" y="433780"/>
                </a:lnTo>
                <a:lnTo>
                  <a:pt x="179083" y="305105"/>
                </a:lnTo>
                <a:lnTo>
                  <a:pt x="62075" y="305105"/>
                </a:lnTo>
                <a:close/>
              </a:path>
            </a:pathLst>
          </a:custGeom>
          <a:solidFill>
            <a:srgbClr val="94b6d2"/>
          </a:solidFill>
          <a:ln w="19080">
            <a:solidFill>
              <a:srgbClr val="6b85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539640" y="4351320"/>
          <a:ext cx="9541080" cy="428760"/>
        </p:xfrm>
        <a:graphic>
          <a:graphicData uri="http://schemas.openxmlformats.org/drawingml/2006/table">
            <a:tbl>
              <a:tblPr/>
              <a:tblGrid>
                <a:gridCol w="3179880"/>
                <a:gridCol w="3181320"/>
                <a:gridCol w="3179880"/>
              </a:tblGrid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1- 4 c/kWh (Güllebonu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2 c/kWh (Pflanzenreste)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4 – 7 c/kWh (NawaRo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</a:tbl>
          </a:graphicData>
        </a:graphic>
      </p:graphicFrame>
      <p:sp>
        <p:nvSpPr>
          <p:cNvPr id="479" name="Plus 11"/>
          <p:cNvSpPr/>
          <p:nvPr/>
        </p:nvSpPr>
        <p:spPr>
          <a:xfrm>
            <a:off x="71280" y="4351320"/>
            <a:ext cx="468360" cy="500040"/>
          </a:xfrm>
          <a:custGeom>
            <a:avLst/>
            <a:gdLst>
              <a:gd name="textAreaLeft" fmla="*/ 61920 w 468360"/>
              <a:gd name="textAreaRight" fmla="*/ 406440 w 468360"/>
              <a:gd name="textAreaTop" fmla="*/ 194760 h 500040"/>
              <a:gd name="textAreaBottom" fmla="*/ 305280 h 500040"/>
            </a:gdLst>
            <a:ahLst/>
            <a:rect l="textAreaLeft" t="textAreaTop" r="textAreaRight" b="textAreaBottom"/>
            <a:pathLst>
              <a:path w="468312" h="500062">
                <a:moveTo>
                  <a:pt x="62075" y="194958"/>
                </a:moveTo>
                <a:lnTo>
                  <a:pt x="179083" y="194958"/>
                </a:lnTo>
                <a:lnTo>
                  <a:pt x="179083" y="66283"/>
                </a:lnTo>
                <a:lnTo>
                  <a:pt x="289229" y="66283"/>
                </a:lnTo>
                <a:lnTo>
                  <a:pt x="289229" y="194958"/>
                </a:lnTo>
                <a:lnTo>
                  <a:pt x="406237" y="194958"/>
                </a:lnTo>
                <a:lnTo>
                  <a:pt x="406237" y="305104"/>
                </a:lnTo>
                <a:lnTo>
                  <a:pt x="289229" y="305104"/>
                </a:lnTo>
                <a:lnTo>
                  <a:pt x="289229" y="433779"/>
                </a:lnTo>
                <a:lnTo>
                  <a:pt x="179083" y="433779"/>
                </a:lnTo>
                <a:lnTo>
                  <a:pt x="179083" y="305104"/>
                </a:lnTo>
                <a:lnTo>
                  <a:pt x="62075" y="305104"/>
                </a:lnTo>
                <a:close/>
              </a:path>
            </a:pathLst>
          </a:custGeom>
          <a:solidFill>
            <a:srgbClr val="94b6d2"/>
          </a:solidFill>
          <a:ln w="19080">
            <a:solidFill>
              <a:srgbClr val="6b85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80" name=""/>
          <p:cNvGraphicFramePr/>
          <p:nvPr/>
        </p:nvGraphicFramePr>
        <p:xfrm>
          <a:off x="539640" y="5208480"/>
          <a:ext cx="9541080" cy="371520"/>
        </p:xfrm>
        <a:graphic>
          <a:graphicData uri="http://schemas.openxmlformats.org/drawingml/2006/table">
            <a:tbl>
              <a:tblPr/>
              <a:tblGrid>
                <a:gridCol w="4770720"/>
                <a:gridCol w="47703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1 c/kWh (Anlagen bis 700 m³/Stunde)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2 c/kWh (Anlagen bis 350 m³/Stunden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</a:tbl>
          </a:graphicData>
        </a:graphic>
      </p:graphicFrame>
      <p:sp>
        <p:nvSpPr>
          <p:cNvPr id="481" name="Plus 14"/>
          <p:cNvSpPr/>
          <p:nvPr/>
        </p:nvSpPr>
        <p:spPr>
          <a:xfrm>
            <a:off x="71280" y="5780160"/>
            <a:ext cx="468360" cy="500040"/>
          </a:xfrm>
          <a:custGeom>
            <a:avLst/>
            <a:gdLst>
              <a:gd name="textAreaLeft" fmla="*/ 61920 w 468360"/>
              <a:gd name="textAreaRight" fmla="*/ 406440 w 468360"/>
              <a:gd name="textAreaTop" fmla="*/ 194760 h 500040"/>
              <a:gd name="textAreaBottom" fmla="*/ 305280 h 500040"/>
            </a:gdLst>
            <a:ahLst/>
            <a:rect l="textAreaLeft" t="textAreaTop" r="textAreaRight" b="textAreaBottom"/>
            <a:pathLst>
              <a:path w="468312" h="500062">
                <a:moveTo>
                  <a:pt x="62075" y="194958"/>
                </a:moveTo>
                <a:lnTo>
                  <a:pt x="179083" y="194958"/>
                </a:lnTo>
                <a:lnTo>
                  <a:pt x="179083" y="66283"/>
                </a:lnTo>
                <a:lnTo>
                  <a:pt x="289229" y="66283"/>
                </a:lnTo>
                <a:lnTo>
                  <a:pt x="289229" y="194958"/>
                </a:lnTo>
                <a:lnTo>
                  <a:pt x="406237" y="194958"/>
                </a:lnTo>
                <a:lnTo>
                  <a:pt x="406237" y="305104"/>
                </a:lnTo>
                <a:lnTo>
                  <a:pt x="289229" y="305104"/>
                </a:lnTo>
                <a:lnTo>
                  <a:pt x="289229" y="433779"/>
                </a:lnTo>
                <a:lnTo>
                  <a:pt x="179083" y="433779"/>
                </a:lnTo>
                <a:lnTo>
                  <a:pt x="179083" y="305104"/>
                </a:lnTo>
                <a:lnTo>
                  <a:pt x="62075" y="305104"/>
                </a:lnTo>
                <a:close/>
              </a:path>
            </a:pathLst>
          </a:custGeom>
          <a:solidFill>
            <a:srgbClr val="94b6d2"/>
          </a:solidFill>
          <a:ln w="19080">
            <a:solidFill>
              <a:srgbClr val="6b85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82" name=""/>
          <p:cNvGraphicFramePr/>
          <p:nvPr/>
        </p:nvGraphicFramePr>
        <p:xfrm>
          <a:off x="611280" y="6708600"/>
          <a:ext cx="9469440" cy="371520"/>
        </p:xfrm>
        <a:graphic>
          <a:graphicData uri="http://schemas.openxmlformats.org/drawingml/2006/table">
            <a:tbl>
              <a:tblPr/>
              <a:tblGrid>
                <a:gridCol w="94694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                                                            </a:t>
                      </a: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3 c/kW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83" name=""/>
          <p:cNvGraphicFramePr/>
          <p:nvPr/>
        </p:nvGraphicFramePr>
        <p:xfrm>
          <a:off x="611280" y="2708280"/>
          <a:ext cx="9469440" cy="639720"/>
        </p:xfrm>
        <a:graphic>
          <a:graphicData uri="http://schemas.openxmlformats.org/drawingml/2006/table">
            <a:tbl>
              <a:tblPr/>
              <a:tblGrid>
                <a:gridCol w="3522600"/>
                <a:gridCol w="2948040"/>
                <a:gridCol w="29988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7.71c/kWh (bis 20 MW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9.09c/kWh (bis 500 kW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11.55c/kWh (bis 150 kw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</a:tbl>
          </a:graphicData>
        </a:graphic>
      </p:graphicFrame>
      <p:sp>
        <p:nvSpPr>
          <p:cNvPr id="484" name="Rechteck 10"/>
          <p:cNvSpPr/>
          <p:nvPr/>
        </p:nvSpPr>
        <p:spPr>
          <a:xfrm>
            <a:off x="2775960" y="3605040"/>
            <a:ext cx="45288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Verteilung des Energiebedarfs Im Hausha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71040" y="301320"/>
            <a:ext cx="8906040" cy="95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Wirtschaftlichkeit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-360" y="1931760"/>
            <a:ext cx="2436840" cy="478764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51200" rIns="151200" tIns="201600" bIns="100800" anchor="t">
            <a:normAutofit/>
          </a:bodyPr>
          <a:p>
            <a:pPr indent="0">
              <a:spcBef>
                <a:spcPts val="774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w Cen MT"/>
              </a:rPr>
              <a:t>Primärenergie - verbrauch in Deutschland in 2008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87" name="Inhaltsplatzhalter 6" descr=""/>
          <p:cNvPicPr/>
          <p:nvPr/>
        </p:nvPicPr>
        <p:blipFill>
          <a:blip r:embed="rId1"/>
          <a:stretch/>
        </p:blipFill>
        <p:spPr>
          <a:xfrm>
            <a:off x="2603520" y="1932120"/>
            <a:ext cx="7056360" cy="48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71040" y="301320"/>
            <a:ext cx="8906040" cy="95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Wirtschaftlichkeit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-360" y="1931760"/>
            <a:ext cx="2436840" cy="478764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51200" rIns="151200" tIns="201600" bIns="100800" anchor="t">
            <a:normAutofit/>
          </a:bodyPr>
          <a:p>
            <a:pPr indent="0">
              <a:spcBef>
                <a:spcPts val="774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w Cen MT"/>
              </a:rPr>
              <a:t>Stromerzeugung aus erneuerbaren Energien in Deutschland 2008 in Gigawattstunden.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90" name="Inhaltsplatzhalter 6" descr=""/>
          <p:cNvPicPr/>
          <p:nvPr/>
        </p:nvPicPr>
        <p:blipFill>
          <a:blip r:embed="rId1"/>
          <a:stretch/>
        </p:blipFill>
        <p:spPr>
          <a:xfrm>
            <a:off x="2603520" y="1779480"/>
            <a:ext cx="705636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71040" y="301320"/>
            <a:ext cx="8906040" cy="95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Wirtschaftlichkeit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-360" y="1931760"/>
            <a:ext cx="2397240" cy="478764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51200" rIns="151200" tIns="201600" bIns="100800" anchor="t">
            <a:normAutofit/>
          </a:bodyPr>
          <a:p>
            <a:pPr indent="0">
              <a:spcBef>
                <a:spcPts val="774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w Cen MT"/>
              </a:rPr>
              <a:t>Wärme Erzeugung aus erneuerbaren  Energien in Deutschland 2008  in Gigawattstunden.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93" name="Inhaltsplatzhalter 3" descr=""/>
          <p:cNvPicPr/>
          <p:nvPr/>
        </p:nvPicPr>
        <p:blipFill>
          <a:blip r:embed="rId1"/>
          <a:stretch/>
        </p:blipFill>
        <p:spPr>
          <a:xfrm>
            <a:off x="2325600" y="1932120"/>
            <a:ext cx="7334280" cy="53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74640" y="252360"/>
            <a:ext cx="898992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Quellenverzeichnis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674640" y="1763280"/>
            <a:ext cx="8989920" cy="4956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17640" bIns="50400" anchor="t">
            <a:normAutofit/>
          </a:bodyPr>
          <a:p>
            <a:pPr marL="430200" indent="-324000">
              <a:spcBef>
                <a:spcPts val="774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ccccff"/>
                </a:solidFill>
                <a:latin typeface="Tw Cen MT"/>
              </a:rPr>
              <a:t>http://www.hems-renewables.de/renewable-energies/biogas.html#c763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430200" indent="-324000">
              <a:spcBef>
                <a:spcPts val="774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ccccff"/>
                </a:solidFill>
                <a:latin typeface="Tw Cen MT"/>
              </a:rPr>
              <a:t>http://www.caussade-saaten.de/Pdf/Caussade%20Biogasinfomappe.pdf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430200" indent="-324000">
              <a:spcBef>
                <a:spcPts val="774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ccccff"/>
                </a:solidFill>
                <a:latin typeface="Tw Cen MT"/>
              </a:rPr>
              <a:t>http://www.nep-group.com/text/funktion-von-biogas.htm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430200" indent="-324000">
              <a:spcBef>
                <a:spcPts val="774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ccccff"/>
                </a:solidFill>
                <a:latin typeface="Tw Cen MT"/>
              </a:rPr>
              <a:t>http://www.mifratis.de/biogaszusammensetzung.php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430200" indent="-324000">
              <a:spcBef>
                <a:spcPts val="774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ccccff"/>
                </a:solidFill>
                <a:latin typeface="Tw Cen MT"/>
              </a:rPr>
              <a:t>http://www.mifratis.de/biogasentstehung.php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430200" indent="-324000">
              <a:spcBef>
                <a:spcPts val="774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ccccff"/>
                </a:solidFill>
                <a:latin typeface="Tw Cen MT"/>
              </a:rPr>
              <a:t>http://www.initiative-co2.de/fachberichte/n-waerme-strom-biogas-02.pdf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430200" indent="-324000">
              <a:spcBef>
                <a:spcPts val="774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ccccff"/>
                </a:solidFill>
                <a:latin typeface="Tw Cen MT"/>
              </a:rPr>
              <a:t>http://biogaskontor.d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430200" indent="-324000">
              <a:spcBef>
                <a:spcPts val="774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w Cen MT"/>
              </a:rPr>
              <a:t>http://www.biogas-netzeinspeisung.at/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430200" indent="-324000">
              <a:spcBef>
                <a:spcPts val="774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w Cen MT"/>
              </a:rPr>
              <a:t>http://www.naturland.de/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430200" indent="-324000">
              <a:spcBef>
                <a:spcPts val="774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w Cen MT"/>
              </a:rPr>
              <a:t>http://www.Bundesumweltministerium.d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74640" y="252360"/>
            <a:ext cx="898992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Verwendbare Stoffe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74640" y="1763280"/>
            <a:ext cx="8989920" cy="4956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52440" indent="-352440">
              <a:spcBef>
                <a:spcPts val="774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1" name="Picture 3" descr=""/>
          <p:cNvPicPr/>
          <p:nvPr/>
        </p:nvPicPr>
        <p:blipFill>
          <a:blip r:embed="rId1"/>
          <a:stretch/>
        </p:blipFill>
        <p:spPr>
          <a:xfrm>
            <a:off x="682560" y="1779480"/>
            <a:ext cx="8929800" cy="506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71040" y="301320"/>
            <a:ext cx="8906040" cy="95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Verwendbare Stoffe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0" y="1931760"/>
            <a:ext cx="1682640" cy="478764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51200" rIns="151200" tIns="201600" bIns="100800" anchor="t">
            <a:normAutofit/>
          </a:bodyPr>
          <a:p>
            <a:pPr indent="0">
              <a:spcBef>
                <a:spcPts val="774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w Cen MT"/>
              </a:rPr>
              <a:t>Ausbeute Rohbiogas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4" name="Inhaltsplatzhalter 6" descr=""/>
          <p:cNvPicPr/>
          <p:nvPr/>
        </p:nvPicPr>
        <p:blipFill>
          <a:blip r:embed="rId1"/>
          <a:stretch/>
        </p:blipFill>
        <p:spPr>
          <a:xfrm>
            <a:off x="1754280" y="2208240"/>
            <a:ext cx="7905600" cy="5143320"/>
          </a:xfrm>
          <a:prstGeom prst="rect">
            <a:avLst/>
          </a:prstGeom>
          <a:ln w="0">
            <a:noFill/>
          </a:ln>
        </p:spPr>
      </p:pic>
      <p:sp>
        <p:nvSpPr>
          <p:cNvPr id="375" name="Textfeld 7"/>
          <p:cNvSpPr/>
          <p:nvPr/>
        </p:nvSpPr>
        <p:spPr>
          <a:xfrm>
            <a:off x="1760040" y="1851120"/>
            <a:ext cx="11469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dd8047"/>
                </a:solidFill>
                <a:latin typeface="Arial"/>
              </a:rPr>
              <a:t>in m³/tF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74640" y="252360"/>
            <a:ext cx="898992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Funktion einer Biogasanlage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682560" y="1707840"/>
            <a:ext cx="8982000" cy="4956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620640" indent="-514440">
              <a:spcBef>
                <a:spcPts val="774"/>
              </a:spcBef>
              <a:buClr>
                <a:srgbClr val="ffcc99"/>
              </a:buClr>
              <a:buFont typeface="Tw Cen MT"/>
              <a:buAutoNum type="arabicPeriod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1" lang="de-DE" sz="3200" spc="-1" strike="noStrike" u="sng">
                <a:solidFill>
                  <a:srgbClr val="000000"/>
                </a:solidFill>
                <a:uFillTx/>
                <a:latin typeface="Tw Cen MT"/>
              </a:rPr>
              <a:t>Annahmebereich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620640" indent="-514440">
              <a:spcBef>
                <a:spcPts val="774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00000"/>
                </a:solidFill>
                <a:latin typeface="Tw Cen MT"/>
              </a:rPr>
              <a:t>Der Annahmebereich dient als Zwischenlagerung der Gärsubstrate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620640" indent="-514440">
              <a:spcBef>
                <a:spcPts val="774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74640" y="252360"/>
            <a:ext cx="898992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Funktion einer Biogasanlage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82560" y="1779120"/>
            <a:ext cx="8982000" cy="4956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620640" indent="-514440">
              <a:spcBef>
                <a:spcPts val="774"/>
              </a:spcBef>
              <a:buClr>
                <a:srgbClr val="ffcc99"/>
              </a:buClr>
              <a:buFont typeface="Tw Cen MT"/>
              <a:buAutoNum type="arabicPeriod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1" lang="de-DE" sz="3200" spc="-1" strike="noStrike" u="sng">
                <a:solidFill>
                  <a:srgbClr val="000000"/>
                </a:solidFill>
                <a:uFillTx/>
                <a:latin typeface="Tw Cen MT"/>
              </a:rPr>
              <a:t>Annahmebereich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620640" indent="-514440">
              <a:spcBef>
                <a:spcPts val="774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00000"/>
                </a:solidFill>
                <a:latin typeface="Tw Cen MT"/>
              </a:rPr>
              <a:t>Der Annahmebereich dient als Zwischenlagerung der Gärsubstrate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0" name="Picture 3" descr=""/>
          <p:cNvPicPr/>
          <p:nvPr/>
        </p:nvPicPr>
        <p:blipFill>
          <a:blip r:embed="rId1"/>
          <a:stretch/>
        </p:blipFill>
        <p:spPr>
          <a:xfrm>
            <a:off x="3240000" y="3556080"/>
            <a:ext cx="5567400" cy="38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74640" y="252360"/>
            <a:ext cx="898992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Funktion einer Biogasanlage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682560" y="1763280"/>
            <a:ext cx="8982000" cy="4956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620640" indent="-514440">
              <a:spcBef>
                <a:spcPts val="774"/>
              </a:spcBef>
              <a:buClr>
                <a:srgbClr val="ffcc99"/>
              </a:buClr>
              <a:buFont typeface="Tw Cen MT"/>
              <a:buAutoNum type="arabicPeriod" startAt="2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1" lang="de-DE" sz="3200" spc="-1" strike="noStrike" u="sng">
                <a:solidFill>
                  <a:srgbClr val="000000"/>
                </a:solidFill>
                <a:uFillTx/>
                <a:latin typeface="Tw Cen MT"/>
              </a:rPr>
              <a:t>Hygienisierung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620640" indent="-514440">
              <a:spcBef>
                <a:spcPts val="774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Tw Cen MT"/>
              </a:rPr>
              <a:t>Hier werden die Substrate wie z.B. (tierische Reststoffe)  auf 70 Grad Celsius für eine Stunde erhitzt, damit keine Kontamination sowie seuchenhygienisch bedenkliche Stoffe oder Bakterien in die Biogasanlage gelangen.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620640" indent="-514440">
              <a:spcBef>
                <a:spcPts val="774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8T17:56:59Z</dcterms:created>
  <dc:creator>rene</dc:creator>
  <dc:description/>
  <dc:language>en-US</dc:language>
  <cp:lastModifiedBy>thomas liebing</cp:lastModifiedBy>
  <dcterms:modified xsi:type="dcterms:W3CDTF">2010-04-18T17:19:59Z</dcterms:modified>
  <cp:revision>73</cp:revision>
  <dc:subject/>
  <dc:title>Folie 1</dc:title>
</cp:coreProperties>
</file>